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476-BAE0-4BBF-9385-532655E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744-FE23-4956-B4F3-6B19EB3D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1FD-7DB2-482C-ADDA-7C683000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35E-C901-4FFB-8AB4-FAD7A3FE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FB2F9-24C9-403F-8771-61675CB0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C9CB-652D-4EBA-8B01-22E6B43A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8A44B-9420-4866-B52A-95A7008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B9BF-CF4E-4A5D-960E-CF325EF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54C4A-400F-4D95-BAEB-C5B8FC6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81DF-9086-4FF0-952E-27D183E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0E4B8-BFDC-4B30-BB59-5FFCA4E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1A8-8971-4E8A-A89E-7814EB2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3A75-3770-4C91-86C7-25E8910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0FB8D-8532-468E-86C7-8B4D649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1DB3-D06B-45BF-B114-D3204A56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9229-F79B-4A4A-AF9C-81539B2B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0304-481A-4F80-9E19-C2B52CC1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85E-E208-43C4-BEF7-1B2CAAA5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EB9-8CAC-4B5C-815D-CBBE6035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239-18CD-4A96-B770-A040D05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DB-E428-4969-A807-4B26FF4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6DA-A7E8-4ECB-87EC-4AB542C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0F4-D374-4924-A033-D53F494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2E4-7BBC-4AA6-814A-CDA9878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F4C-6854-4924-8F35-53CA400EA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AA9-CF96-4C99-83A9-CF8A34157E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Мастер – класс по рисованию с помощью губки и малярного скотча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"Мы учимся рисовать"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Дерендеева И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/с «Ручеё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6019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ям постарше ( 4 -5 лет) можно предложить раскрасить черепашку с помощью губки и малярного скот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Опис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очень увлекательное занятие, особенно для маленьких детей . Держать карандаш или кисточку для них еще трудновато, так как рисование карандашом требует от детей определённого нажима для того, чтобы он начал оставлять на бумаге яркие черточки, кружочки. Деткам до 2-3 лет сложно рисовать с помощью кисточки, поэтому используем всевозможные заменители кистей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с одной стороны хороший способ развития фантазии, с другой — развитие умения рисовать. Простота создания рисунка с помощью губки придает ребенку уверенность в своих силах и не требует от него определенных умений рисовать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Мастер – класс будет полезен в работе воспитателей детских садов и родителей с детьми от 2 лет , а также всем творческим людя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: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яркого рисунка в стиле абстр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влечь детей интересным способом рисовани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интерес и положительного отношения к рисовани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мелкую моторику, глазомер, пространственное воображени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воображение, фантазию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эстетический и художественный вкус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оспитывать самостоятельность, аккуратность, любозна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создания такого рисунка нам потребуе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лый картон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ашь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бка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ярный скотч( узкий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ожн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нарезаем губку на маленькие кусочки, для того чтобы маленькой детской руке было удобнее дер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лее в одноразовых тарелочках разводим гуашь. В данном случае мы взяли 4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он необходимо заклеить хаотично полосками малярного скотча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67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предлагаем ребенку потрогать, почувствовать губку, какая она мягкая, сухая, мокрая. Показываем, как можно наносить мазки поверх малярного скотча. Потом ребенок сам берет губку, обмакивает ее в краску одного цвета и закрашивает лист бумаги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94216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краска высохнет, можно аккуратно оторвать полоски малярного скотча. Такой рисунок в стиле абстракции, можно вставить в рамку и повесить на стену такую необычную картину ребен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4:07:41Z</dcterms:created>
  <dc:creator>Ucer</dc:creator>
  <dc:description/>
  <dc:language>en-US</dc:language>
  <cp:lastModifiedBy>Ucer</cp:lastModifiedBy>
  <dcterms:modified xsi:type="dcterms:W3CDTF">2019-03-09T14:3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