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3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1B9C4-06DC-4743-9D25-5AF502B2646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DE698-B74A-40F1-8A61-491C5E18F75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02F55-41BF-42BB-A04E-FACBB2D4D4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E108B-4FEA-4E3B-B2BC-FFA0DF79B55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3EC51-8E0C-491C-A913-2822E8A2E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63ACB-E3D7-465C-AF2E-A408FBB5DEB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BF1C3-7CA8-40A3-A4C9-2B17CB925D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E63B0-6EF2-4498-9B60-77AC35FED29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C8A81-46DF-4A76-A7C6-FA87A378AA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45C51-B4DB-4B22-891F-FA953F3EE6E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76729-A3E8-43BA-84DB-AD108CB101C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25520-EDEF-4C09-935B-19085173C2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Я говорю «Добро пожаловать!» в дорожную академию. Туда мы отправимся со школьником. А уроки нам будет препода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Постовой Светофоркин. Девиз с которым мы с вами отправимся в занимательное путешеств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85771-25F3-415F-BB80-96756240D69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7D47D-C0B0-413F-976A-88ECA0A037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EED00-64B1-4F5B-8EE6-5085D0854E4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ABFFF-BC0C-4B40-93AC-E07092E717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D8D6D-9A08-4B8B-9F96-3BAC76A0C45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99822-6A33-4162-8115-FB7417E5F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6BE0D-4C9B-4824-9C10-3D1CE1C6942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50D97-65B2-4499-A95A-CE6B65DB0B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5CFFD-9795-49EF-A506-279ECB73805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8C46F-E2D7-430F-BB6A-76ABBBFE73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06C47-C0D9-496C-AA68-73DA2CFC43A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CD567-C881-4881-B5D2-B523EDDDE4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85A52-9D30-4369-9804-AD7DD78A162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178C1-16A4-452F-B698-7C46673E90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BC63-A4F9-4AA8-B8CA-8BD5CFAD89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45B9-2994-4E3A-ACD1-A7D604A1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73BA-36A3-4F93-89CF-9A89F6F1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957B-A276-443F-8896-A2D8B78F41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A91F9-3061-4411-89A4-D572DAE5DD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6BBC6-1A86-4DF4-ADDB-8F679CE3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CC190-8D8B-4331-9375-3480577C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1028E-53C9-4D13-A088-C18B5384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D99D3-CD47-4FCC-A578-314DBF0C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C2AF1-DD50-49D0-841F-25887090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5B913-D90C-4F6F-A486-9B0FE044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B831-E19A-448D-96E2-786C2FA2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2296C-B669-455A-A681-62D2E2EA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58D75-2587-45C3-8961-60DC65B9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BAE64-4131-4D59-A265-8B5D66E4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08C59-686B-40B8-82F2-28864D73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38E72-2DC6-44A9-AC17-1F71360E8E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0C98-BC83-4FE3-BB69-4B24FA0D04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8554-37F0-4714-B512-DFFBB943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5156-77E6-4CE8-8549-060F0D88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2378-A550-4EBC-96B4-E5121416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B173-0DB9-45F8-9E07-75AB0C0F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A9C59-0549-4201-9186-9447F7F0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F4AF-FD48-4818-B5AD-B074EE61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67A3-322C-42E0-8896-F3EBF529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6875-ADF1-4B2C-8866-0172FE1F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105C-F8E6-45B9-B1AB-EABBD2B7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5C0C-6FE2-49DB-BC3D-44A40978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DF81-1B16-4E37-8A8A-E5597205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A097-A49E-4DD5-9037-0387D734D6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F378F-5542-44A2-9BC3-413E6FC9BC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9BD85-FF17-4E73-8332-19E948C4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4BFA0-5F46-4555-A02E-BB0D610F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1B3B5-15A6-4769-844E-51265C7D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25587-0D8D-4782-96F5-F4743B82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B6DA4-5720-40A4-A123-E6082A44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ADD78-98F1-4F66-AF41-C7D0DAA6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EC254-C4BB-4093-8296-E58A5240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061F2-8892-4EE2-B4CC-63CBAC97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DCE36-F297-433E-96B0-77934FC5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8986E-8CB7-4019-AC03-031F0213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177E9-F3FC-4324-B69F-94B8D5EA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9F11C-161A-4A39-A38B-B8BE4A6FE7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586296-A742-40E2-A81E-62AB54DC34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2283-D938-40DB-B455-39A59A70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6ED896-C293-4098-B786-68138A14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1881C7-AE9B-42E9-A9D0-BE7096EB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029624-3422-4E43-B400-96B79984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6EE7D-1F15-41A6-842A-757C6A90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899ADB-16BF-444F-9A52-2ADE6271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4B5FEE-0396-4BA1-8E21-96FD8FEF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C3A83F-CEDE-431B-854E-3D608E51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C7D31-B63D-4E49-AA77-150C71EA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B38BF-7856-40E0-BE87-C954C4C5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738B45-32EC-4B63-8F1D-59EDD4B5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E1560-9717-4E18-8707-8BE39F96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3157D5-5540-4FA1-87C9-699AE60B4A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6DAD6-1DD6-415E-9998-E6A7AEF77B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A7818-9B96-4596-8851-A0EB35C0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87397-5B21-47EF-984E-B00FA8CB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90EE0-0EC2-444D-A9C9-84A4278F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D1231-9769-4979-99B1-20ED9253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475CF-0782-4422-9C44-86D00EF3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C58C7-779E-4064-BD16-A3C4AFE5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6ADA5-80EE-42DA-8184-FF99779E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BF729-E284-4DB9-B675-23742314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F6592-43A5-4B2E-9611-91440F34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2DB11-0DF2-4376-900F-43623A98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C8D99-7E90-4B9E-8E81-8932ED55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8FC46-BB31-4EB5-9802-15E359C98E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0FCFB-1D87-4961-B800-3F711F561C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D56D9-ED36-4CB9-825B-23A4A12B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D98305-B577-41BA-A32B-93C99CFD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7831A-FB1B-477C-9DD7-4B163E56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5D804-E3B5-4A2D-904C-E7E60D90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D9B11-3800-4DCC-9A3E-B5037964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863A2-59FD-4891-BD88-332D26AD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49FC9-ABF5-4EBC-96E5-457E47D6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07B4D-DEB4-4905-97A3-D23E5EF4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0D721-A0E4-4ACE-A0C9-8B053352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D76C9B-5285-4D84-90F7-448B619D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0C443A-2B18-4CB4-852D-542941D1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D60DC-B236-4835-898F-AE48109A9D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86441-BED7-40C2-9938-0F47AF3A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552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72741-9477-4C06-A439-67C4B086D71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176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8300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5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456F82-696F-4EAE-B56E-3473D26FA22E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12CAEB-778E-4C74-88E2-E9B38996C0E6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480" y="21708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8300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656C1B-D8D2-4B0E-B811-9A8AA5556E8E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47A2A2-926D-42CF-A3FB-A16EDD0AE3DB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5CDFCF-7307-4606-9109-18CB292D8545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BCE6A0-B53B-4228-8A00-2C5EE0F3DB5F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by.ru/community/view/30500/forum/post/36932489/" TargetMode="External"/><Relationship Id="rId2" Type="http://schemas.openxmlformats.org/officeDocument/2006/relationships/hyperlink" Target="http://nattik.ru/" TargetMode="External"/><Relationship Id="rId3" Type="http://schemas.openxmlformats.org/officeDocument/2006/relationships/hyperlink" Target="http://mars36.ru/archives/41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571840" y="3429000"/>
            <a:ext cx="617220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924360" y="276120"/>
            <a:ext cx="2928960" cy="29289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111640" y="5616720"/>
            <a:ext cx="338472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ерендеева Ирина Михайловна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\сад «Ручеек»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2357280" y="4286160"/>
            <a:ext cx="6172200" cy="185904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ff39d"/>
                </a:solidFill>
                <a:latin typeface="Century Schoolbook"/>
              </a:rPr>
              <a:t>И у светофора можно встретить опасность!!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6000840" cy="384012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461" name="Rectangle 3"/>
          <p:cNvSpPr/>
          <p:nvPr/>
        </p:nvSpPr>
        <p:spPr>
          <a:xfrm>
            <a:off x="357120" y="5786280"/>
            <a:ext cx="6000840" cy="764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ли погас зеленый сигнал для пешехода – нужн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тановитьс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1"/>
          <p:cNvSpPr txBox="1"/>
          <p:nvPr/>
        </p:nvSpPr>
        <p:spPr>
          <a:xfrm>
            <a:off x="2556000" y="1989000"/>
            <a:ext cx="444024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Детям знать положено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равила дорожные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ы, дружок, доверься им: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Будешь цел и невредим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463" name="AutoShape 2"/>
          <p:cNvSpPr/>
          <p:nvPr/>
        </p:nvSpPr>
        <p:spPr>
          <a:xfrm>
            <a:off x="228600" y="4876920"/>
            <a:ext cx="8705880" cy="914400"/>
          </a:xfrm>
          <a:custGeom>
            <a:avLst/>
            <a:gdLst>
              <a:gd name="textAreaLeft" fmla="*/ 0 w 8705880"/>
              <a:gd name="textAreaRight" fmla="*/ 8706240 w 87058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484" h="576">
                <a:moveTo>
                  <a:pt x="5484" y="501"/>
                </a:moveTo>
                <a:lnTo>
                  <a:pt x="5277" y="280"/>
                </a:lnTo>
                <a:lnTo>
                  <a:pt x="5146" y="247"/>
                </a:lnTo>
                <a:lnTo>
                  <a:pt x="5000" y="209"/>
                </a:lnTo>
                <a:lnTo>
                  <a:pt x="4837" y="170"/>
                </a:lnTo>
                <a:lnTo>
                  <a:pt x="4664" y="128"/>
                </a:lnTo>
                <a:lnTo>
                  <a:pt x="4484" y="89"/>
                </a:lnTo>
                <a:lnTo>
                  <a:pt x="4295" y="55"/>
                </a:lnTo>
                <a:lnTo>
                  <a:pt x="4105" y="28"/>
                </a:lnTo>
                <a:lnTo>
                  <a:pt x="3914" y="8"/>
                </a:lnTo>
                <a:lnTo>
                  <a:pt x="3731" y="0"/>
                </a:lnTo>
                <a:lnTo>
                  <a:pt x="3549" y="8"/>
                </a:lnTo>
                <a:lnTo>
                  <a:pt x="3376" y="28"/>
                </a:lnTo>
                <a:lnTo>
                  <a:pt x="3214" y="69"/>
                </a:lnTo>
                <a:lnTo>
                  <a:pt x="3070" y="128"/>
                </a:lnTo>
                <a:lnTo>
                  <a:pt x="2938" y="211"/>
                </a:lnTo>
                <a:lnTo>
                  <a:pt x="2829" y="322"/>
                </a:lnTo>
                <a:lnTo>
                  <a:pt x="2743" y="460"/>
                </a:lnTo>
                <a:lnTo>
                  <a:pt x="2665" y="322"/>
                </a:lnTo>
                <a:lnTo>
                  <a:pt x="2558" y="217"/>
                </a:lnTo>
                <a:lnTo>
                  <a:pt x="2430" y="132"/>
                </a:lnTo>
                <a:lnTo>
                  <a:pt x="2287" y="73"/>
                </a:lnTo>
                <a:lnTo>
                  <a:pt x="2127" y="36"/>
                </a:lnTo>
                <a:lnTo>
                  <a:pt x="1954" y="12"/>
                </a:lnTo>
                <a:lnTo>
                  <a:pt x="1770" y="8"/>
                </a:lnTo>
                <a:lnTo>
                  <a:pt x="1583" y="12"/>
                </a:lnTo>
                <a:lnTo>
                  <a:pt x="1390" y="34"/>
                </a:lnTo>
                <a:lnTo>
                  <a:pt x="1203" y="59"/>
                </a:lnTo>
                <a:lnTo>
                  <a:pt x="1010" y="93"/>
                </a:lnTo>
                <a:lnTo>
                  <a:pt x="828" y="132"/>
                </a:lnTo>
                <a:lnTo>
                  <a:pt x="651" y="170"/>
                </a:lnTo>
                <a:lnTo>
                  <a:pt x="488" y="211"/>
                </a:lnTo>
                <a:lnTo>
                  <a:pt x="339" y="247"/>
                </a:lnTo>
                <a:lnTo>
                  <a:pt x="208" y="280"/>
                </a:lnTo>
                <a:lnTo>
                  <a:pt x="0" y="501"/>
                </a:lnTo>
                <a:lnTo>
                  <a:pt x="26" y="501"/>
                </a:lnTo>
                <a:lnTo>
                  <a:pt x="102" y="499"/>
                </a:lnTo>
                <a:lnTo>
                  <a:pt x="217" y="497"/>
                </a:lnTo>
                <a:lnTo>
                  <a:pt x="364" y="491"/>
                </a:lnTo>
                <a:lnTo>
                  <a:pt x="544" y="487"/>
                </a:lnTo>
                <a:lnTo>
                  <a:pt x="742" y="482"/>
                </a:lnTo>
                <a:lnTo>
                  <a:pt x="955" y="478"/>
                </a:lnTo>
                <a:lnTo>
                  <a:pt x="1173" y="470"/>
                </a:lnTo>
                <a:lnTo>
                  <a:pt x="1394" y="464"/>
                </a:lnTo>
                <a:lnTo>
                  <a:pt x="1608" y="460"/>
                </a:lnTo>
                <a:lnTo>
                  <a:pt x="1812" y="450"/>
                </a:lnTo>
                <a:lnTo>
                  <a:pt x="1994" y="446"/>
                </a:lnTo>
                <a:lnTo>
                  <a:pt x="2147" y="440"/>
                </a:lnTo>
                <a:lnTo>
                  <a:pt x="2270" y="436"/>
                </a:lnTo>
                <a:lnTo>
                  <a:pt x="2356" y="432"/>
                </a:lnTo>
                <a:lnTo>
                  <a:pt x="2392" y="428"/>
                </a:lnTo>
                <a:lnTo>
                  <a:pt x="2428" y="430"/>
                </a:lnTo>
                <a:lnTo>
                  <a:pt x="2456" y="448"/>
                </a:lnTo>
                <a:lnTo>
                  <a:pt x="2461" y="468"/>
                </a:lnTo>
                <a:lnTo>
                  <a:pt x="2441" y="478"/>
                </a:lnTo>
                <a:lnTo>
                  <a:pt x="2412" y="491"/>
                </a:lnTo>
                <a:lnTo>
                  <a:pt x="2401" y="525"/>
                </a:lnTo>
                <a:lnTo>
                  <a:pt x="2410" y="560"/>
                </a:lnTo>
                <a:lnTo>
                  <a:pt x="2441" y="576"/>
                </a:lnTo>
                <a:lnTo>
                  <a:pt x="2743" y="576"/>
                </a:lnTo>
                <a:lnTo>
                  <a:pt x="3045" y="576"/>
                </a:lnTo>
                <a:lnTo>
                  <a:pt x="3078" y="560"/>
                </a:lnTo>
                <a:lnTo>
                  <a:pt x="3085" y="525"/>
                </a:lnTo>
                <a:lnTo>
                  <a:pt x="3072" y="491"/>
                </a:lnTo>
                <a:lnTo>
                  <a:pt x="3045" y="478"/>
                </a:lnTo>
                <a:lnTo>
                  <a:pt x="3023" y="468"/>
                </a:lnTo>
                <a:lnTo>
                  <a:pt x="3029" y="448"/>
                </a:lnTo>
                <a:lnTo>
                  <a:pt x="3056" y="430"/>
                </a:lnTo>
                <a:lnTo>
                  <a:pt x="3094" y="428"/>
                </a:lnTo>
                <a:lnTo>
                  <a:pt x="3132" y="432"/>
                </a:lnTo>
                <a:lnTo>
                  <a:pt x="3214" y="436"/>
                </a:lnTo>
                <a:lnTo>
                  <a:pt x="3336" y="440"/>
                </a:lnTo>
                <a:lnTo>
                  <a:pt x="3492" y="446"/>
                </a:lnTo>
                <a:lnTo>
                  <a:pt x="3678" y="450"/>
                </a:lnTo>
                <a:lnTo>
                  <a:pt x="3878" y="460"/>
                </a:lnTo>
                <a:lnTo>
                  <a:pt x="4089" y="464"/>
                </a:lnTo>
                <a:lnTo>
                  <a:pt x="4313" y="470"/>
                </a:lnTo>
                <a:lnTo>
                  <a:pt x="4533" y="478"/>
                </a:lnTo>
                <a:lnTo>
                  <a:pt x="4746" y="482"/>
                </a:lnTo>
                <a:lnTo>
                  <a:pt x="4944" y="487"/>
                </a:lnTo>
                <a:lnTo>
                  <a:pt x="5120" y="491"/>
                </a:lnTo>
                <a:lnTo>
                  <a:pt x="5269" y="497"/>
                </a:lnTo>
                <a:lnTo>
                  <a:pt x="5384" y="499"/>
                </a:lnTo>
                <a:lnTo>
                  <a:pt x="5459" y="501"/>
                </a:lnTo>
                <a:lnTo>
                  <a:pt x="5484" y="501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4648320" y="838080"/>
            <a:ext cx="4022640" cy="474516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4745160"/>
              <a:gd name="textAreaBottom" fmla="*/ 4745520 h 4745160"/>
            </a:gdLst>
            <a:ahLst/>
            <a:rect l="textAreaLeft" t="textAreaTop" r="textAreaRight" b="textAreaBottom"/>
            <a:pathLst>
              <a:path w="2534" h="2989">
                <a:moveTo>
                  <a:pt x="0" y="280"/>
                </a:moveTo>
                <a:lnTo>
                  <a:pt x="0" y="2989"/>
                </a:lnTo>
                <a:lnTo>
                  <a:pt x="86" y="2851"/>
                </a:lnTo>
                <a:lnTo>
                  <a:pt x="195" y="2740"/>
                </a:lnTo>
                <a:lnTo>
                  <a:pt x="327" y="2657"/>
                </a:lnTo>
                <a:lnTo>
                  <a:pt x="471" y="2598"/>
                </a:lnTo>
                <a:lnTo>
                  <a:pt x="633" y="2557"/>
                </a:lnTo>
                <a:lnTo>
                  <a:pt x="806" y="2537"/>
                </a:lnTo>
                <a:lnTo>
                  <a:pt x="988" y="2529"/>
                </a:lnTo>
                <a:lnTo>
                  <a:pt x="1171" y="2537"/>
                </a:lnTo>
                <a:lnTo>
                  <a:pt x="1362" y="2557"/>
                </a:lnTo>
                <a:lnTo>
                  <a:pt x="1552" y="2584"/>
                </a:lnTo>
                <a:lnTo>
                  <a:pt x="1741" y="2618"/>
                </a:lnTo>
                <a:lnTo>
                  <a:pt x="1921" y="2657"/>
                </a:lnTo>
                <a:lnTo>
                  <a:pt x="2094" y="2699"/>
                </a:lnTo>
                <a:lnTo>
                  <a:pt x="2257" y="2738"/>
                </a:lnTo>
                <a:lnTo>
                  <a:pt x="2403" y="2776"/>
                </a:lnTo>
                <a:lnTo>
                  <a:pt x="2534" y="2809"/>
                </a:lnTo>
                <a:lnTo>
                  <a:pt x="1426" y="132"/>
                </a:lnTo>
                <a:lnTo>
                  <a:pt x="1337" y="110"/>
                </a:lnTo>
                <a:lnTo>
                  <a:pt x="1244" y="88"/>
                </a:lnTo>
                <a:lnTo>
                  <a:pt x="1153" y="67"/>
                </a:lnTo>
                <a:lnTo>
                  <a:pt x="1060" y="49"/>
                </a:lnTo>
                <a:lnTo>
                  <a:pt x="966" y="27"/>
                </a:lnTo>
                <a:lnTo>
                  <a:pt x="873" y="15"/>
                </a:lnTo>
                <a:lnTo>
                  <a:pt x="779" y="4"/>
                </a:lnTo>
                <a:lnTo>
                  <a:pt x="688" y="0"/>
                </a:lnTo>
                <a:lnTo>
                  <a:pt x="597" y="2"/>
                </a:lnTo>
                <a:lnTo>
                  <a:pt x="506" y="12"/>
                </a:lnTo>
                <a:lnTo>
                  <a:pt x="417" y="27"/>
                </a:lnTo>
                <a:lnTo>
                  <a:pt x="329" y="59"/>
                </a:lnTo>
                <a:lnTo>
                  <a:pt x="242" y="94"/>
                </a:lnTo>
                <a:lnTo>
                  <a:pt x="160" y="142"/>
                </a:lnTo>
                <a:lnTo>
                  <a:pt x="76" y="203"/>
                </a:lnTo>
                <a:lnTo>
                  <a:pt x="0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609480" y="838080"/>
            <a:ext cx="4024440" cy="5104080"/>
          </a:xfrm>
          <a:custGeom>
            <a:avLst/>
            <a:gdLst>
              <a:gd name="textAreaLeft" fmla="*/ 0 w 4024440"/>
              <a:gd name="textAreaRight" fmla="*/ 4024800 w 4024440"/>
              <a:gd name="textAreaTop" fmla="*/ 0 h 5104080"/>
              <a:gd name="textAreaBottom" fmla="*/ 5104440 h 5104080"/>
            </a:gdLst>
            <a:ahLst/>
            <a:rect l="textAreaLeft" t="textAreaTop" r="textAreaRight" b="textAreaBottom"/>
            <a:pathLst>
              <a:path w="2535" h="2989">
                <a:moveTo>
                  <a:pt x="2535" y="280"/>
                </a:moveTo>
                <a:lnTo>
                  <a:pt x="2453" y="203"/>
                </a:lnTo>
                <a:lnTo>
                  <a:pt x="2371" y="142"/>
                </a:lnTo>
                <a:lnTo>
                  <a:pt x="2288" y="96"/>
                </a:lnTo>
                <a:lnTo>
                  <a:pt x="2202" y="59"/>
                </a:lnTo>
                <a:lnTo>
                  <a:pt x="2115" y="27"/>
                </a:lnTo>
                <a:lnTo>
                  <a:pt x="2028" y="12"/>
                </a:lnTo>
                <a:lnTo>
                  <a:pt x="1937" y="2"/>
                </a:lnTo>
                <a:lnTo>
                  <a:pt x="1846" y="0"/>
                </a:lnTo>
                <a:lnTo>
                  <a:pt x="1753" y="4"/>
                </a:lnTo>
                <a:lnTo>
                  <a:pt x="1662" y="15"/>
                </a:lnTo>
                <a:lnTo>
                  <a:pt x="1569" y="29"/>
                </a:lnTo>
                <a:lnTo>
                  <a:pt x="1477" y="49"/>
                </a:lnTo>
                <a:lnTo>
                  <a:pt x="1384" y="67"/>
                </a:lnTo>
                <a:lnTo>
                  <a:pt x="1291" y="88"/>
                </a:lnTo>
                <a:lnTo>
                  <a:pt x="1202" y="114"/>
                </a:lnTo>
                <a:lnTo>
                  <a:pt x="1111" y="134"/>
                </a:lnTo>
                <a:lnTo>
                  <a:pt x="0" y="2809"/>
                </a:lnTo>
                <a:lnTo>
                  <a:pt x="131" y="2776"/>
                </a:lnTo>
                <a:lnTo>
                  <a:pt x="280" y="2740"/>
                </a:lnTo>
                <a:lnTo>
                  <a:pt x="443" y="2699"/>
                </a:lnTo>
                <a:lnTo>
                  <a:pt x="620" y="2661"/>
                </a:lnTo>
                <a:lnTo>
                  <a:pt x="802" y="2622"/>
                </a:lnTo>
                <a:lnTo>
                  <a:pt x="995" y="2588"/>
                </a:lnTo>
                <a:lnTo>
                  <a:pt x="1182" y="2563"/>
                </a:lnTo>
                <a:lnTo>
                  <a:pt x="1375" y="2541"/>
                </a:lnTo>
                <a:lnTo>
                  <a:pt x="1562" y="2537"/>
                </a:lnTo>
                <a:lnTo>
                  <a:pt x="1746" y="2541"/>
                </a:lnTo>
                <a:lnTo>
                  <a:pt x="1919" y="2565"/>
                </a:lnTo>
                <a:lnTo>
                  <a:pt x="2079" y="2602"/>
                </a:lnTo>
                <a:lnTo>
                  <a:pt x="2222" y="2661"/>
                </a:lnTo>
                <a:lnTo>
                  <a:pt x="2350" y="2746"/>
                </a:lnTo>
                <a:lnTo>
                  <a:pt x="2457" y="2851"/>
                </a:lnTo>
                <a:lnTo>
                  <a:pt x="2535" y="2989"/>
                </a:lnTo>
                <a:lnTo>
                  <a:pt x="2535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6872400" y="1039680"/>
            <a:ext cx="2087280" cy="4600800"/>
          </a:xfrm>
          <a:custGeom>
            <a:avLst/>
            <a:gdLst>
              <a:gd name="textAreaLeft" fmla="*/ 0 w 2087280"/>
              <a:gd name="textAreaRight" fmla="*/ 2087280 w 2087280"/>
              <a:gd name="textAreaTop" fmla="*/ 0 h 4600800"/>
              <a:gd name="textAreaBottom" fmla="*/ 4601160 h 4600800"/>
            </a:gdLst>
            <a:ahLst/>
            <a:rect l="textAreaLeft" t="textAreaTop" r="textAreaRight" b="textAreaBottom"/>
            <a:pathLst>
              <a:path w="1315" h="2898">
                <a:moveTo>
                  <a:pt x="0" y="0"/>
                </a:moveTo>
                <a:lnTo>
                  <a:pt x="1108" y="2677"/>
                </a:lnTo>
                <a:lnTo>
                  <a:pt x="1315" y="2898"/>
                </a:lnTo>
                <a:lnTo>
                  <a:pt x="115" y="132"/>
                </a:lnTo>
                <a:lnTo>
                  <a:pt x="85" y="132"/>
                </a:lnTo>
                <a:lnTo>
                  <a:pt x="0" y="0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254160" y="1042920"/>
            <a:ext cx="2093760" cy="459756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4597560"/>
              <a:gd name="textAreaBottom" fmla="*/ 4597920 h 4597560"/>
            </a:gdLst>
            <a:ahLst/>
            <a:rect l="textAreaLeft" t="textAreaTop" r="textAreaRight" b="textAreaBottom"/>
            <a:pathLst>
              <a:path w="1319" h="2896">
                <a:moveTo>
                  <a:pt x="0" y="2896"/>
                </a:moveTo>
                <a:lnTo>
                  <a:pt x="208" y="2675"/>
                </a:lnTo>
                <a:lnTo>
                  <a:pt x="1319" y="0"/>
                </a:lnTo>
                <a:lnTo>
                  <a:pt x="1232" y="130"/>
                </a:lnTo>
                <a:lnTo>
                  <a:pt x="1204" y="130"/>
                </a:lnTo>
                <a:lnTo>
                  <a:pt x="0" y="2896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225360" y="795240"/>
            <a:ext cx="8763120" cy="499608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6080"/>
              <a:gd name="textAreaBottom" fmla="*/ 4996440 h 499608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228600" y="762120"/>
            <a:ext cx="8763120" cy="49957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5720"/>
              <a:gd name="textAreaBottom" fmla="*/ 4996080 h 499572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17478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889440" cy="29163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356000" y="333360"/>
            <a:ext cx="4246560" cy="29512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2050920" y="3357720"/>
            <a:ext cx="4321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647640" y="1152360"/>
            <a:ext cx="6120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1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DejaVu Sans Condensed"/>
                <a:hlinkClick r:id="rId1"/>
              </a:rPr>
              <a:t>http://www.baby.ru/community/view/30500/forum/post/36932489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nattik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ars36.ru/archives/4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374840" y="1143000"/>
            <a:ext cx="51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«Дисциплина на улице – залог безопасности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6357960" y="3857760"/>
            <a:ext cx="1608120" cy="22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tretch/>
        </p:blipFill>
        <p:spPr>
          <a:xfrm>
            <a:off x="1571760" y="4214880"/>
            <a:ext cx="1152360" cy="1871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1357200" y="2000160"/>
            <a:ext cx="671508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5"/>
          <a:stretch/>
        </p:blipFill>
        <p:spPr>
          <a:xfrm>
            <a:off x="3643200" y="4071960"/>
            <a:ext cx="2000520" cy="20001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1.0000054168701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-106200"/>
            <a:ext cx="6172200" cy="155556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39d"/>
                </a:solidFill>
                <a:latin typeface="Century Schoolbook"/>
              </a:rPr>
              <a:t>ДОРОЖНЫЕ ЗНА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3714840" y="192888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3786120" y="2000160"/>
            <a:ext cx="2927520" cy="3903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5"/>
          <a:stretch/>
        </p:blipFill>
        <p:spPr>
          <a:xfrm>
            <a:off x="3786120" y="200016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6"/>
          <a:stretch/>
        </p:blipFill>
        <p:spPr>
          <a:xfrm>
            <a:off x="3714840" y="192888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7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8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9"/>
          <a:stretch/>
        </p:blipFill>
        <p:spPr>
          <a:xfrm>
            <a:off x="3786120" y="2000160"/>
            <a:ext cx="3000600" cy="4000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"/>
          <p:cNvPicPr/>
          <p:nvPr/>
        </p:nvPicPr>
        <p:blipFill>
          <a:blip r:embed="rId10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11"/>
          <a:stretch/>
        </p:blipFill>
        <p:spPr>
          <a:xfrm>
            <a:off x="3714840" y="2071800"/>
            <a:ext cx="300024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357280" y="500040"/>
            <a:ext cx="61722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упрежд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Запрещ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писыв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Информационно-указате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иорите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Серви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Дополнительной информ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357280" y="203040"/>
            <a:ext cx="5214960" cy="665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301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О СВЕТОФОР – ОН РЕГУЛИРУЕТ ДВИЖЕНИЕ ТРАНСПОРТА И ПЕШЕХОДОВ НА ДО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3962520" y="1371600"/>
            <a:ext cx="1365120" cy="5175360"/>
            <a:chOff x="3962520" y="1371600"/>
            <a:chExt cx="1365120" cy="5175360"/>
          </a:xfrm>
        </p:grpSpPr>
        <p:grpSp>
          <p:nvGrpSpPr>
            <p:cNvPr id="388" name="Group 3"/>
            <p:cNvGrpSpPr/>
            <p:nvPr/>
          </p:nvGrpSpPr>
          <p:grpSpPr>
            <a:xfrm>
              <a:off x="3962520" y="1371600"/>
              <a:ext cx="1365120" cy="3340440"/>
              <a:chOff x="3962520" y="1371600"/>
              <a:chExt cx="1365120" cy="3340440"/>
            </a:xfrm>
          </p:grpSpPr>
          <p:sp>
            <p:nvSpPr>
              <p:cNvPr id="389" name="Rectangle 4"/>
              <p:cNvSpPr/>
              <p:nvPr/>
            </p:nvSpPr>
            <p:spPr>
              <a:xfrm>
                <a:off x="3962520" y="1371600"/>
                <a:ext cx="1365120" cy="3340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4260960" y="1603080"/>
                <a:ext cx="768240" cy="6980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6"/>
              <p:cNvSpPr/>
              <p:nvPr/>
            </p:nvSpPr>
            <p:spPr>
              <a:xfrm>
                <a:off x="4260960" y="2544120"/>
                <a:ext cx="768240" cy="69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7"/>
              <p:cNvSpPr/>
              <p:nvPr/>
            </p:nvSpPr>
            <p:spPr>
              <a:xfrm>
                <a:off x="4260960" y="3542760"/>
                <a:ext cx="768240" cy="6980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8"/>
            <p:cNvSpPr/>
            <p:nvPr/>
          </p:nvSpPr>
          <p:spPr>
            <a:xfrm flipH="1">
              <a:off x="4108320" y="6546960"/>
              <a:ext cx="99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4419720" y="4718520"/>
              <a:ext cx="450720" cy="1820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5" name="Picture 10" descr=""/>
          <p:cNvPicPr/>
          <p:nvPr/>
        </p:nvPicPr>
        <p:blipFill>
          <a:blip r:embed="rId1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3998880" y="6172200"/>
            <a:ext cx="782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4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 flipH="1">
            <a:off x="3854520" y="61722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4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5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 flipH="1">
            <a:off x="3727440" y="59436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ЕРЕХОДИ ДОРОГУ ТОЛЬКО НА ЗЕЛЕНЫЙ СИГНАЛ СВЕТОФ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26684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H="1">
            <a:off x="4260600" y="0"/>
            <a:ext cx="889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8839080" y="0"/>
            <a:ext cx="5335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7924680" y="152280"/>
            <a:ext cx="679680" cy="2660760"/>
            <a:chOff x="7924680" y="152280"/>
            <a:chExt cx="679680" cy="2660760"/>
          </a:xfrm>
        </p:grpSpPr>
        <p:grpSp>
          <p:nvGrpSpPr>
            <p:cNvPr id="431" name="Group 12"/>
            <p:cNvGrpSpPr/>
            <p:nvPr/>
          </p:nvGrpSpPr>
          <p:grpSpPr>
            <a:xfrm>
              <a:off x="7924680" y="152280"/>
              <a:ext cx="679680" cy="2660760"/>
              <a:chOff x="7924680" y="152280"/>
              <a:chExt cx="679680" cy="2660760"/>
            </a:xfrm>
          </p:grpSpPr>
          <p:grpSp>
            <p:nvGrpSpPr>
              <p:cNvPr id="432" name="Group 13"/>
              <p:cNvGrpSpPr/>
              <p:nvPr/>
            </p:nvGrpSpPr>
            <p:grpSpPr>
              <a:xfrm>
                <a:off x="7924680" y="152280"/>
                <a:ext cx="679680" cy="1713600"/>
                <a:chOff x="7924680" y="152280"/>
                <a:chExt cx="679680" cy="1713600"/>
              </a:xfrm>
            </p:grpSpPr>
            <p:sp>
              <p:nvSpPr>
                <p:cNvPr id="433" name="Rectangle 14"/>
                <p:cNvSpPr/>
                <p:nvPr/>
              </p:nvSpPr>
              <p:spPr>
                <a:xfrm>
                  <a:off x="7924680" y="152280"/>
                  <a:ext cx="679680" cy="1713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Oval 15"/>
                <p:cNvSpPr/>
                <p:nvPr/>
              </p:nvSpPr>
              <p:spPr>
                <a:xfrm>
                  <a:off x="8074080" y="271080"/>
                  <a:ext cx="380880" cy="3567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6"/>
                <p:cNvSpPr/>
                <p:nvPr/>
              </p:nvSpPr>
              <p:spPr>
                <a:xfrm>
                  <a:off x="8074080" y="754920"/>
                  <a:ext cx="380880" cy="356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7"/>
                <p:cNvSpPr/>
                <p:nvPr/>
              </p:nvSpPr>
              <p:spPr>
                <a:xfrm>
                  <a:off x="8074080" y="1267560"/>
                  <a:ext cx="380880" cy="35712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Line 18"/>
              <p:cNvSpPr/>
              <p:nvPr/>
            </p:nvSpPr>
            <p:spPr>
              <a:xfrm flipH="1">
                <a:off x="7994520" y="281304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9"/>
              <p:cNvSpPr/>
              <p:nvPr/>
            </p:nvSpPr>
            <p:spPr>
              <a:xfrm>
                <a:off x="8153280" y="1872000"/>
                <a:ext cx="222480" cy="931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Oval 20"/>
            <p:cNvSpPr/>
            <p:nvPr/>
          </p:nvSpPr>
          <p:spPr>
            <a:xfrm>
              <a:off x="8061480" y="27144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21"/>
            <p:cNvSpPr/>
            <p:nvPr/>
          </p:nvSpPr>
          <p:spPr>
            <a:xfrm>
              <a:off x="8061480" y="74448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22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5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26"/>
          <p:cNvGrpSpPr/>
          <p:nvPr/>
        </p:nvGrpSpPr>
        <p:grpSpPr>
          <a:xfrm>
            <a:off x="7797600" y="2689920"/>
            <a:ext cx="1318320" cy="3170160"/>
            <a:chOff x="7797600" y="2689920"/>
            <a:chExt cx="1318320" cy="3170160"/>
          </a:xfrm>
        </p:grpSpPr>
        <p:sp>
          <p:nvSpPr>
            <p:cNvPr id="446" name="AutoShape 27"/>
            <p:cNvSpPr/>
            <p:nvPr/>
          </p:nvSpPr>
          <p:spPr>
            <a:xfrm rot="480000">
              <a:off x="7860960" y="2768760"/>
              <a:ext cx="1197000" cy="912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Group 28"/>
            <p:cNvGrpSpPr/>
            <p:nvPr/>
          </p:nvGrpSpPr>
          <p:grpSpPr>
            <a:xfrm>
              <a:off x="7797600" y="3103560"/>
              <a:ext cx="1152000" cy="2756520"/>
              <a:chOff x="7797600" y="3103560"/>
              <a:chExt cx="1152000" cy="2756520"/>
            </a:xfrm>
          </p:grpSpPr>
          <p:grpSp>
            <p:nvGrpSpPr>
              <p:cNvPr id="448" name="Group 29"/>
              <p:cNvGrpSpPr/>
              <p:nvPr/>
            </p:nvGrpSpPr>
            <p:grpSpPr>
              <a:xfrm>
                <a:off x="7797600" y="3103560"/>
                <a:ext cx="1096200" cy="2756520"/>
                <a:chOff x="7797600" y="3103560"/>
                <a:chExt cx="1096200" cy="2756520"/>
              </a:xfrm>
            </p:grpSpPr>
            <p:sp>
              <p:nvSpPr>
                <p:cNvPr id="449" name="Oval 30"/>
                <p:cNvSpPr/>
                <p:nvPr/>
              </p:nvSpPr>
              <p:spPr>
                <a:xfrm>
                  <a:off x="8115480" y="3103560"/>
                  <a:ext cx="522360" cy="4327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31"/>
                <p:cNvSpPr/>
                <p:nvPr/>
              </p:nvSpPr>
              <p:spPr>
                <a:xfrm>
                  <a:off x="8247960" y="3604680"/>
                  <a:ext cx="256680" cy="6202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32"/>
                <p:cNvSpPr/>
                <p:nvPr/>
              </p:nvSpPr>
              <p:spPr>
                <a:xfrm rot="19920000">
                  <a:off x="7791120" y="3749760"/>
                  <a:ext cx="587880" cy="120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33"/>
                <p:cNvSpPr/>
                <p:nvPr/>
              </p:nvSpPr>
              <p:spPr>
                <a:xfrm rot="2040000">
                  <a:off x="8384040" y="3724920"/>
                  <a:ext cx="520560" cy="1202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34"/>
                <p:cNvSpPr/>
                <p:nvPr/>
              </p:nvSpPr>
              <p:spPr>
                <a:xfrm>
                  <a:off x="8051760" y="4170960"/>
                  <a:ext cx="653040" cy="1689120"/>
                </a:xfrm>
                <a:custGeom>
                  <a:avLst/>
                  <a:gdLst>
                    <a:gd name="textAreaLeft" fmla="*/ 0 w 653040"/>
                    <a:gd name="textAreaRight" fmla="*/ 653400 w 653040"/>
                    <a:gd name="textAreaTop" fmla="*/ 0 h 1689120"/>
                    <a:gd name="textAreaBottom" fmla="*/ 605160 h 168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35"/>
                <p:cNvSpPr/>
                <p:nvPr/>
              </p:nvSpPr>
              <p:spPr>
                <a:xfrm>
                  <a:off x="8247960" y="3228840"/>
                  <a:ext cx="5904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6"/>
                <p:cNvSpPr/>
                <p:nvPr/>
              </p:nvSpPr>
              <p:spPr>
                <a:xfrm>
                  <a:off x="8446320" y="3228840"/>
                  <a:ext cx="5868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Oval 37"/>
                <p:cNvSpPr/>
                <p:nvPr/>
              </p:nvSpPr>
              <p:spPr>
                <a:xfrm>
                  <a:off x="8247960" y="3417480"/>
                  <a:ext cx="188280" cy="56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AutoShape 38"/>
              <p:cNvSpPr/>
              <p:nvPr/>
            </p:nvSpPr>
            <p:spPr>
              <a:xfrm>
                <a:off x="7860960" y="4887360"/>
                <a:ext cx="35892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AutoShape 39"/>
              <p:cNvSpPr/>
              <p:nvPr/>
            </p:nvSpPr>
            <p:spPr>
              <a:xfrm>
                <a:off x="8591040" y="4887360"/>
                <a:ext cx="35856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04:26Z</dcterms:created>
  <dc:creator>Учитель</dc:creator>
  <dc:description/>
  <dc:language>en-US</dc:language>
  <cp:lastModifiedBy>Ucer</cp:lastModifiedBy>
  <dcterms:modified xsi:type="dcterms:W3CDTF">2019-03-24T05:42:41Z</dcterms:modified>
  <cp:revision>28</cp:revision>
  <dc:subject/>
  <dc:title>Слайд 1</dc:title>
</cp:coreProperties>
</file>