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2.jpeg" ContentType="image/jpeg"/>
  <Override PartName="/ppt/media/image7.jpeg" ContentType="image/jpeg"/>
  <Override PartName="/ppt/media/image18.png" ContentType="image/png"/>
  <Override PartName="/ppt/media/image23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wmf" ContentType="image/x-wmf"/>
  <Override PartName="/ppt/media/image14.jpeg" ContentType="image/jpeg"/>
  <Override PartName="/ppt/media/image2.png" ContentType="image/png"/>
  <Override PartName="/ppt/media/image17.jpeg" ContentType="image/jpeg"/>
  <Override PartName="/ppt/media/image16.jpeg" ContentType="image/jpeg"/>
  <Override PartName="/ppt/media/image22.jpeg" ContentType="image/jpeg"/>
  <Override PartName="/ppt/media/image1.jpeg" ContentType="image/jpeg"/>
  <Override PartName="/ppt/media/image4.wmf" ContentType="image/x-wmf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AutoShape 1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AutoShape 2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AutoShape 3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4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 Box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dt" idx="15"/>
          </p:nvPr>
        </p:nvSpPr>
        <p:spPr>
          <a:xfrm>
            <a:off x="3884400" y="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2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move the slide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79920" cy="41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9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sldNum" idx="16"/>
          </p:nvPr>
        </p:nvSpPr>
        <p:spPr>
          <a:xfrm>
            <a:off x="388440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54ABC8-1083-44EC-BDCC-8AA0DC341B3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7529C9-3F71-4516-9652-EC5528A5F0E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7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CFE02A-305B-4F84-965E-E113A0602A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C2A22-8D3A-4F82-A458-6D69F315BC5B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F006C-9C66-4ED3-A0C8-959ED03238A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24FEA-7D72-4C4C-B8CA-884E7D3C9CB8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14F9AC-C771-4738-8B37-237E6D462F6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6A0E1E-FBA7-47CC-AFD3-972ACF7EDAE1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2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CADB4BF-1DE2-4944-A4E5-596BC79D83E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6CE015-EC06-4111-8420-AC97A9AB99A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68760" cy="342576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10BAC7-846D-4C3D-81DD-53FFB13ACB2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90863-BFEA-4D24-812A-5C380099EA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Я говорю «Добро пожаловать!» в дорожную академию. Туда мы отправимся со школьником. А уроки нам будет препода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Droid Sans"/>
              </a:rPr>
              <a:t>Постовой Светофоркин. Девиз с которым мы с вами отправимся в занимательное путешеств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3F2035-1D02-4516-A4CC-1BC32F15EBC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811795-DA82-43C5-811B-1BFC1F9A5B0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71B794-EA09-43F7-A91F-6A68DFD0FAE2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CA4183-FE3B-49F9-96BC-90C019EC8DB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E2FBB8-1F60-4E2C-B43B-0F9B3E05F290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4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9172FE-0CA6-47AB-A3AE-7B577E8E0F3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DB1420-B2A9-4F6E-975E-09D592EDFB4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498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89A37E-10C4-4A79-8AC4-99A181B155D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231D85-CBC9-445F-9EB1-75C23B47998D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8EDD9-6F38-47B2-9DBC-90B81026EF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803CCA-AC00-4A73-9A68-4E6EC23C2BA6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03BB5E-7E1E-4064-B19F-097590E634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10"/>
          <p:cNvSpPr/>
          <p:nvPr/>
        </p:nvSpPr>
        <p:spPr>
          <a:xfrm>
            <a:off x="3884760" y="8685360"/>
            <a:ext cx="296532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C71494-5A32-4CCE-92F5-ECF05C79BCE5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Droid Sans"/>
            </a:endParaRPr>
          </a:p>
        </p:txBody>
      </p:sp>
      <p:sp>
        <p:nvSpPr>
          <p:cNvPr id="51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69DCCC-3429-4F47-8B1F-ED73AD68E3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E1098-26DB-41D3-B11F-830E643193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C1726-C361-46F8-AD68-AC3219E43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5E51D-2F8A-4721-861D-984E148E3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E2636-EB3D-4BDF-9204-B0055A03552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3E5197-3D3A-4CDF-B41F-EB0CA629223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0DF71B-8184-4D4A-AB88-B6D1C315E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ECD717-3C65-48D7-A404-21C3D212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ACA2C3-5D29-4AE7-A417-CF93EF2073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121F80-D423-4382-A307-60BE404C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05E96-ECA6-410B-AF90-195411E2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967CA9-9BD7-4485-8FA5-2BDF9DA95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82E4B-B113-48C8-85CE-65CFEAF62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1C0DC8-739E-45D8-9057-AE4089D1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DAC3F-3007-4875-B270-8E095A247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3AB6F6-8AF8-4545-97AC-75F2C6662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958F1F-4EB9-4B4D-82AB-439E59D87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798E2-709E-4506-8BA0-4A569B94C2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3C61B-F8E5-4E6B-A4CE-1AC904139F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F9124-BD16-4C29-B5BE-74B814770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BEFD-E2CD-441C-96A3-6D0D6C4DD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C329-31B4-4C82-8998-63385785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36145-BE6A-4787-9460-43BA8D9D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8A794-1799-4313-B01C-9446056E1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9BBDF-F185-4943-8870-7F791C55E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59FE2-A925-4DB9-A8F7-CF3BC1E89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39F2B-06ED-4CDD-B27F-D14FB0823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F5E4-2D57-4171-84B6-B4445BC76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BE12E-8C0B-4B96-94F7-7ED83B1C2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87BD-CE33-414B-9938-AE801C35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DE55A-106B-4447-988F-CEC26EB34FE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E7793E-EBD6-418F-BDED-9843CF8B94A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DCDDB6-5439-4A38-A476-CFA1E7CF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6F3749-11FE-4C46-88C8-79FED5EB0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F0148A-294F-4FC1-871C-F0A0F00CA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870547-62CB-4D70-9A9A-7559900AD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E1F3A0-3ABC-48CF-BF44-1D03BD8EC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28B383-EF59-4271-9BC1-9085C1261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475696-A031-44FD-B6B7-584CEBF8F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04DE6-7B08-439A-B5E6-D628D9A91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2E0DB7-D47E-42A4-A9E0-68C0EF37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47A1E1-04CE-4C12-8FB1-88F01ED8C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BB1C1-21F7-49FC-88BC-B0AD9EE5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7046F7-1B0E-440E-A46F-9CB9BBE5100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E7E131-CC1A-4D4A-BBD9-4A5FCE10534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A3262-BA50-4AE3-AC66-188247AEE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7DE3AC-1916-45AD-9C5A-29D48674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B2EC71-2B1D-4C7D-9E62-1CE993BE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2EAFB4-E87D-4806-8DA1-0C5D3CE76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AEA1B6-C743-4CDE-9AC7-6F00DBE78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193E3AD-A192-4A27-A854-35B547DBC4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6AB463-DC2E-49BE-9E4D-E6568453B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EFD782C-8135-4F07-A770-67BF3C5D2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77662F4-6EAE-4BE3-BA78-929F0F6A7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1C19EE-320C-4B96-ABA5-E16ED7E2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EF5741-E6F2-48F5-AF95-4A03B48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093F39-F843-48C0-8906-8D6F8BF92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9A0F81-8F00-4F35-9E95-F4F390163F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73C32-3EC0-4F83-8A02-14368998867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FE7FF-505A-4143-96DC-9EA5FF67C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E85CFD-9A38-458E-8AFF-5F59693BE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BE854-57BA-437B-A0B8-350481CC8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56E711-A363-4D98-9954-0A6265FF3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A62409-4B14-4172-9733-F8D8E73D1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1D427-07DD-41E7-9725-85DE6575F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482A9C-C4C9-4401-BED1-D425E80C3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9C75E0-FF7F-436A-B293-D0768AD73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FB862-57DD-45E7-9057-4CD747671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36ECFE-AC49-4F90-A202-1CC55A023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1FC89E-5ABB-4345-BC58-CC17E68BA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0365B-3E7D-45EF-B99F-4B21878A5B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A1E157-9019-4D64-9724-402966E2076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D3EF1C7-43BC-46F1-BFB8-9E5EB243E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C0CCC4-D615-4EC2-8D0F-BD2EE1ABC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9E53C1-8A17-4A12-BCCC-1946D574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5B8690-655A-44BA-8BD3-C09A9AB6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7461360" cy="526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2F9F1DC-64AA-42D4-9275-CC4AA7673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F9128B-D33F-45CF-B1ED-0378B224E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FFCE2-73A5-40B8-914D-7DA38C6E6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726FDA0-E481-45D0-8CAD-69A57555F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07BBDD-0DA5-4C93-B741-BDA919A63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B918CE2-6039-4CD9-8E3D-DDC7D0EC4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0760" y="414288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EAED90-D128-40F3-B3AA-704473C6B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008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2600" y="160020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72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008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2600" y="4142880"/>
            <a:ext cx="240228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21613C-63B7-481E-A680-1C8732121DE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0760" y="1600200"/>
            <a:ext cx="364104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142880"/>
            <a:ext cx="74613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24C1-B6A0-45F4-BBF0-ECEE380E4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Text Box 5"/>
          <p:cNvSpPr/>
          <p:nvPr/>
        </p:nvSpPr>
        <p:spPr>
          <a:xfrm rot="5400000">
            <a:off x="6995520" y="373536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Line 9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Oval 1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151E7-83F3-45A8-8431-58D6590CAF10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Line 10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Oval 12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Oval 13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Oval 14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val 15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Oval 16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3"/>
          </p:nvPr>
        </p:nvSpPr>
        <p:spPr>
          <a:xfrm>
            <a:off x="9097920" y="22176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 rot="5400000">
            <a:off x="708300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sldNum" idx="4"/>
          </p:nvPr>
        </p:nvSpPr>
        <p:spPr>
          <a:xfrm>
            <a:off x="13255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C006066-920A-413A-9975-9EFDE91F1CD5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5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8040F11-3147-49AC-BB5D-538A4B6A8883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1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Rectangle 4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Line 5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Line 6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Line 7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Line 8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Rectangle 10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Oval 11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12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13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14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15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Line 16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7"/>
          </p:nvPr>
        </p:nvSpPr>
        <p:spPr>
          <a:xfrm>
            <a:off x="9096480" y="217080"/>
            <a:ext cx="2279520" cy="3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20"/>
          <p:cNvSpPr/>
          <p:nvPr/>
        </p:nvSpPr>
        <p:spPr>
          <a:xfrm rot="5400000">
            <a:off x="708300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sldNum" idx="8"/>
          </p:nvPr>
        </p:nvSpPr>
        <p:spPr>
          <a:xfrm>
            <a:off x="1339920" y="4929120"/>
            <a:ext cx="60336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7734338-F6C8-41F6-A14F-03751EC4C62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2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Oval 6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9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0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844D3E5-23DB-4C38-9DFF-18A1EFF0FC4B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11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Line 2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Line 3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Line 4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Rectangle 5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Line 6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Oval 7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1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2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60ABD3D-619A-4E05-BCC3-3E99DABA04AA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Line 1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Oval 2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Line 3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Line 5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Line 6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Line 7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61360" cy="113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74613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3"/>
          </p:nvPr>
        </p:nvSpPr>
        <p:spPr>
          <a:xfrm>
            <a:off x="8786520" y="268200"/>
            <a:ext cx="200484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vert="eaVer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3720"/>
            <a:ext cx="60336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F0F151A-B76C-45AE-8E47-8C5B73EEE8AD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DejaVu Sans Condense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Text Box 12"/>
          <p:cNvSpPr/>
          <p:nvPr/>
        </p:nvSpPr>
        <p:spPr>
          <a:xfrm rot="5400000">
            <a:off x="699624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aby.ru/community/view/30500/forum/post/36932489/" TargetMode="External"/><Relationship Id="rId2" Type="http://schemas.openxmlformats.org/officeDocument/2006/relationships/hyperlink" Target="http://nattik.ru/" TargetMode="External"/><Relationship Id="rId3" Type="http://schemas.openxmlformats.org/officeDocument/2006/relationships/hyperlink" Target="http://mars36.ru/archives/415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image" Target="../media/image14.jpeg"/><Relationship Id="rId10" Type="http://schemas.openxmlformats.org/officeDocument/2006/relationships/image" Target="../media/image15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37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Text Box 1"/>
          <p:cNvSpPr/>
          <p:nvPr/>
        </p:nvSpPr>
        <p:spPr>
          <a:xfrm>
            <a:off x="2571840" y="3429000"/>
            <a:ext cx="617220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2" descr=""/>
          <p:cNvPicPr/>
          <p:nvPr/>
        </p:nvPicPr>
        <p:blipFill>
          <a:blip r:embed="rId1"/>
          <a:stretch/>
        </p:blipFill>
        <p:spPr>
          <a:xfrm>
            <a:off x="3924360" y="276120"/>
            <a:ext cx="2928960" cy="29289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5111640" y="5616720"/>
            <a:ext cx="3384720" cy="85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ерендеева Ирина Михайловна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  <a:p>
            <a:pPr marL="343080" indent="-3398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Arial"/>
              </a:rPr>
              <a:t>д\сад «Ручеек»</a:t>
            </a:r>
            <a:endParaRPr b="0" lang="en-US" sz="1500" spc="-1" strike="noStrike">
              <a:solidFill>
                <a:srgbClr val="ffffff"/>
              </a:solidFill>
              <a:latin typeface="Century Schoolboo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Text Box 1"/>
          <p:cNvSpPr/>
          <p:nvPr/>
        </p:nvSpPr>
        <p:spPr>
          <a:xfrm>
            <a:off x="2357280" y="4286160"/>
            <a:ext cx="6172200" cy="1859040"/>
          </a:xfrm>
          <a:prstGeom prst="rect">
            <a:avLst/>
          </a:prstGeom>
          <a:noFill/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700" spc="-1" strike="noStrike">
                <a:solidFill>
                  <a:srgbClr val="fff39d"/>
                </a:solidFill>
                <a:latin typeface="Century Schoolbook"/>
              </a:rPr>
              <a:t>И у светофора можно встретить опасность!!!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0" name="Picture 2" descr=""/>
          <p:cNvPicPr/>
          <p:nvPr/>
        </p:nvPicPr>
        <p:blipFill>
          <a:blip r:embed="rId1"/>
          <a:stretch/>
        </p:blipFill>
        <p:spPr>
          <a:xfrm>
            <a:off x="2357280" y="285840"/>
            <a:ext cx="6000840" cy="384012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  <p:sp>
        <p:nvSpPr>
          <p:cNvPr id="461" name="Rectangle 3"/>
          <p:cNvSpPr/>
          <p:nvPr/>
        </p:nvSpPr>
        <p:spPr>
          <a:xfrm>
            <a:off x="357120" y="5786280"/>
            <a:ext cx="6000840" cy="764640"/>
          </a:xfrm>
          <a:prstGeom prst="rect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Если погас зеленый сигнал для пешехода – нужно </a:t>
            </a:r>
            <a:r>
              <a:rPr b="1" lang="ru-RU" sz="2400" spc="-1" strike="noStrike">
                <a:solidFill>
                  <a:srgbClr val="000000"/>
                </a:solidFill>
                <a:latin typeface="Century Schoolbook"/>
              </a:rPr>
              <a:t>остановиться</a:t>
            </a:r>
            <a:r>
              <a:rPr b="1" lang="ru-RU" sz="2000" spc="-1" strike="noStrike">
                <a:solidFill>
                  <a:srgbClr val="000000"/>
                </a:solidFill>
                <a:latin typeface="Century Schoolbook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WordArt 1"/>
          <p:cNvSpPr txBox="1"/>
          <p:nvPr/>
        </p:nvSpPr>
        <p:spPr>
          <a:xfrm>
            <a:off x="2556000" y="1989000"/>
            <a:ext cx="4440240" cy="18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144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Детям знать положено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Правила дорожные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Ты, дружок, доверься им: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w="9360">
                  <a:solidFill>
                    <a:srgbClr val="7598d9"/>
                  </a:solidFill>
                  <a:miter/>
                </a:ln>
                <a:solidFill>
                  <a:srgbClr val="ff3300"/>
                </a:solidFill>
                <a:latin typeface="Times New Roman"/>
              </a:rPr>
              <a:t>Будешь цел и невредим!</a:t>
            </a:r>
            <a:endParaRPr b="0" lang="en-US" sz="1800" spc="1" strike="noStrike">
              <a:ln w="9360">
                <a:solidFill>
                  <a:srgbClr val="7598d9"/>
                </a:solidFill>
                <a:miter/>
              </a:ln>
              <a:solidFill>
                <a:srgbClr val="ff3300"/>
              </a:solidFill>
              <a:latin typeface="Times New Roman"/>
              <a:ea typeface="Times New Roman"/>
            </a:endParaRPr>
          </a:p>
        </p:txBody>
      </p:sp>
      <p:sp>
        <p:nvSpPr>
          <p:cNvPr id="463" name="AutoShape 2"/>
          <p:cNvSpPr/>
          <p:nvPr/>
        </p:nvSpPr>
        <p:spPr>
          <a:xfrm>
            <a:off x="228600" y="4876920"/>
            <a:ext cx="8705880" cy="914400"/>
          </a:xfrm>
          <a:custGeom>
            <a:avLst/>
            <a:gdLst>
              <a:gd name="textAreaLeft" fmla="*/ 0 w 8705880"/>
              <a:gd name="textAreaRight" fmla="*/ 8706240 w 8705880"/>
              <a:gd name="textAreaTop" fmla="*/ 0 h 914400"/>
              <a:gd name="textAreaBottom" fmla="*/ 914760 h 914400"/>
            </a:gdLst>
            <a:ahLst/>
            <a:rect l="textAreaLeft" t="textAreaTop" r="textAreaRight" b="textAreaBottom"/>
            <a:pathLst>
              <a:path w="5484" h="576">
                <a:moveTo>
                  <a:pt x="5484" y="501"/>
                </a:moveTo>
                <a:lnTo>
                  <a:pt x="5277" y="280"/>
                </a:lnTo>
                <a:lnTo>
                  <a:pt x="5146" y="247"/>
                </a:lnTo>
                <a:lnTo>
                  <a:pt x="5000" y="209"/>
                </a:lnTo>
                <a:lnTo>
                  <a:pt x="4837" y="170"/>
                </a:lnTo>
                <a:lnTo>
                  <a:pt x="4664" y="128"/>
                </a:lnTo>
                <a:lnTo>
                  <a:pt x="4484" y="89"/>
                </a:lnTo>
                <a:lnTo>
                  <a:pt x="4295" y="55"/>
                </a:lnTo>
                <a:lnTo>
                  <a:pt x="4105" y="28"/>
                </a:lnTo>
                <a:lnTo>
                  <a:pt x="3914" y="8"/>
                </a:lnTo>
                <a:lnTo>
                  <a:pt x="3731" y="0"/>
                </a:lnTo>
                <a:lnTo>
                  <a:pt x="3549" y="8"/>
                </a:lnTo>
                <a:lnTo>
                  <a:pt x="3376" y="28"/>
                </a:lnTo>
                <a:lnTo>
                  <a:pt x="3214" y="69"/>
                </a:lnTo>
                <a:lnTo>
                  <a:pt x="3070" y="128"/>
                </a:lnTo>
                <a:lnTo>
                  <a:pt x="2938" y="211"/>
                </a:lnTo>
                <a:lnTo>
                  <a:pt x="2829" y="322"/>
                </a:lnTo>
                <a:lnTo>
                  <a:pt x="2743" y="460"/>
                </a:lnTo>
                <a:lnTo>
                  <a:pt x="2665" y="322"/>
                </a:lnTo>
                <a:lnTo>
                  <a:pt x="2558" y="217"/>
                </a:lnTo>
                <a:lnTo>
                  <a:pt x="2430" y="132"/>
                </a:lnTo>
                <a:lnTo>
                  <a:pt x="2287" y="73"/>
                </a:lnTo>
                <a:lnTo>
                  <a:pt x="2127" y="36"/>
                </a:lnTo>
                <a:lnTo>
                  <a:pt x="1954" y="12"/>
                </a:lnTo>
                <a:lnTo>
                  <a:pt x="1770" y="8"/>
                </a:lnTo>
                <a:lnTo>
                  <a:pt x="1583" y="12"/>
                </a:lnTo>
                <a:lnTo>
                  <a:pt x="1390" y="34"/>
                </a:lnTo>
                <a:lnTo>
                  <a:pt x="1203" y="59"/>
                </a:lnTo>
                <a:lnTo>
                  <a:pt x="1010" y="93"/>
                </a:lnTo>
                <a:lnTo>
                  <a:pt x="828" y="132"/>
                </a:lnTo>
                <a:lnTo>
                  <a:pt x="651" y="170"/>
                </a:lnTo>
                <a:lnTo>
                  <a:pt x="488" y="211"/>
                </a:lnTo>
                <a:lnTo>
                  <a:pt x="339" y="247"/>
                </a:lnTo>
                <a:lnTo>
                  <a:pt x="208" y="280"/>
                </a:lnTo>
                <a:lnTo>
                  <a:pt x="0" y="501"/>
                </a:lnTo>
                <a:lnTo>
                  <a:pt x="26" y="501"/>
                </a:lnTo>
                <a:lnTo>
                  <a:pt x="102" y="499"/>
                </a:lnTo>
                <a:lnTo>
                  <a:pt x="217" y="497"/>
                </a:lnTo>
                <a:lnTo>
                  <a:pt x="364" y="491"/>
                </a:lnTo>
                <a:lnTo>
                  <a:pt x="544" y="487"/>
                </a:lnTo>
                <a:lnTo>
                  <a:pt x="742" y="482"/>
                </a:lnTo>
                <a:lnTo>
                  <a:pt x="955" y="478"/>
                </a:lnTo>
                <a:lnTo>
                  <a:pt x="1173" y="470"/>
                </a:lnTo>
                <a:lnTo>
                  <a:pt x="1394" y="464"/>
                </a:lnTo>
                <a:lnTo>
                  <a:pt x="1608" y="460"/>
                </a:lnTo>
                <a:lnTo>
                  <a:pt x="1812" y="450"/>
                </a:lnTo>
                <a:lnTo>
                  <a:pt x="1994" y="446"/>
                </a:lnTo>
                <a:lnTo>
                  <a:pt x="2147" y="440"/>
                </a:lnTo>
                <a:lnTo>
                  <a:pt x="2270" y="436"/>
                </a:lnTo>
                <a:lnTo>
                  <a:pt x="2356" y="432"/>
                </a:lnTo>
                <a:lnTo>
                  <a:pt x="2392" y="428"/>
                </a:lnTo>
                <a:lnTo>
                  <a:pt x="2428" y="430"/>
                </a:lnTo>
                <a:lnTo>
                  <a:pt x="2456" y="448"/>
                </a:lnTo>
                <a:lnTo>
                  <a:pt x="2461" y="468"/>
                </a:lnTo>
                <a:lnTo>
                  <a:pt x="2441" y="478"/>
                </a:lnTo>
                <a:lnTo>
                  <a:pt x="2412" y="491"/>
                </a:lnTo>
                <a:lnTo>
                  <a:pt x="2401" y="525"/>
                </a:lnTo>
                <a:lnTo>
                  <a:pt x="2410" y="560"/>
                </a:lnTo>
                <a:lnTo>
                  <a:pt x="2441" y="576"/>
                </a:lnTo>
                <a:lnTo>
                  <a:pt x="2743" y="576"/>
                </a:lnTo>
                <a:lnTo>
                  <a:pt x="3045" y="576"/>
                </a:lnTo>
                <a:lnTo>
                  <a:pt x="3078" y="560"/>
                </a:lnTo>
                <a:lnTo>
                  <a:pt x="3085" y="525"/>
                </a:lnTo>
                <a:lnTo>
                  <a:pt x="3072" y="491"/>
                </a:lnTo>
                <a:lnTo>
                  <a:pt x="3045" y="478"/>
                </a:lnTo>
                <a:lnTo>
                  <a:pt x="3023" y="468"/>
                </a:lnTo>
                <a:lnTo>
                  <a:pt x="3029" y="448"/>
                </a:lnTo>
                <a:lnTo>
                  <a:pt x="3056" y="430"/>
                </a:lnTo>
                <a:lnTo>
                  <a:pt x="3094" y="428"/>
                </a:lnTo>
                <a:lnTo>
                  <a:pt x="3132" y="432"/>
                </a:lnTo>
                <a:lnTo>
                  <a:pt x="3214" y="436"/>
                </a:lnTo>
                <a:lnTo>
                  <a:pt x="3336" y="440"/>
                </a:lnTo>
                <a:lnTo>
                  <a:pt x="3492" y="446"/>
                </a:lnTo>
                <a:lnTo>
                  <a:pt x="3678" y="450"/>
                </a:lnTo>
                <a:lnTo>
                  <a:pt x="3878" y="460"/>
                </a:lnTo>
                <a:lnTo>
                  <a:pt x="4089" y="464"/>
                </a:lnTo>
                <a:lnTo>
                  <a:pt x="4313" y="470"/>
                </a:lnTo>
                <a:lnTo>
                  <a:pt x="4533" y="478"/>
                </a:lnTo>
                <a:lnTo>
                  <a:pt x="4746" y="482"/>
                </a:lnTo>
                <a:lnTo>
                  <a:pt x="4944" y="487"/>
                </a:lnTo>
                <a:lnTo>
                  <a:pt x="5120" y="491"/>
                </a:lnTo>
                <a:lnTo>
                  <a:pt x="5269" y="497"/>
                </a:lnTo>
                <a:lnTo>
                  <a:pt x="5384" y="499"/>
                </a:lnTo>
                <a:lnTo>
                  <a:pt x="5459" y="501"/>
                </a:lnTo>
                <a:lnTo>
                  <a:pt x="5484" y="501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AutoShape 3"/>
          <p:cNvSpPr/>
          <p:nvPr/>
        </p:nvSpPr>
        <p:spPr>
          <a:xfrm>
            <a:off x="4648320" y="838080"/>
            <a:ext cx="4022640" cy="4745160"/>
          </a:xfrm>
          <a:custGeom>
            <a:avLst/>
            <a:gdLst>
              <a:gd name="textAreaLeft" fmla="*/ 0 w 4022640"/>
              <a:gd name="textAreaRight" fmla="*/ 4023000 w 4022640"/>
              <a:gd name="textAreaTop" fmla="*/ 0 h 4745160"/>
              <a:gd name="textAreaBottom" fmla="*/ 4745520 h 4745160"/>
            </a:gdLst>
            <a:ahLst/>
            <a:rect l="textAreaLeft" t="textAreaTop" r="textAreaRight" b="textAreaBottom"/>
            <a:pathLst>
              <a:path w="2534" h="2989">
                <a:moveTo>
                  <a:pt x="0" y="280"/>
                </a:moveTo>
                <a:lnTo>
                  <a:pt x="0" y="2989"/>
                </a:lnTo>
                <a:lnTo>
                  <a:pt x="86" y="2851"/>
                </a:lnTo>
                <a:lnTo>
                  <a:pt x="195" y="2740"/>
                </a:lnTo>
                <a:lnTo>
                  <a:pt x="327" y="2657"/>
                </a:lnTo>
                <a:lnTo>
                  <a:pt x="471" y="2598"/>
                </a:lnTo>
                <a:lnTo>
                  <a:pt x="633" y="2557"/>
                </a:lnTo>
                <a:lnTo>
                  <a:pt x="806" y="2537"/>
                </a:lnTo>
                <a:lnTo>
                  <a:pt x="988" y="2529"/>
                </a:lnTo>
                <a:lnTo>
                  <a:pt x="1171" y="2537"/>
                </a:lnTo>
                <a:lnTo>
                  <a:pt x="1362" y="2557"/>
                </a:lnTo>
                <a:lnTo>
                  <a:pt x="1552" y="2584"/>
                </a:lnTo>
                <a:lnTo>
                  <a:pt x="1741" y="2618"/>
                </a:lnTo>
                <a:lnTo>
                  <a:pt x="1921" y="2657"/>
                </a:lnTo>
                <a:lnTo>
                  <a:pt x="2094" y="2699"/>
                </a:lnTo>
                <a:lnTo>
                  <a:pt x="2257" y="2738"/>
                </a:lnTo>
                <a:lnTo>
                  <a:pt x="2403" y="2776"/>
                </a:lnTo>
                <a:lnTo>
                  <a:pt x="2534" y="2809"/>
                </a:lnTo>
                <a:lnTo>
                  <a:pt x="1426" y="132"/>
                </a:lnTo>
                <a:lnTo>
                  <a:pt x="1337" y="110"/>
                </a:lnTo>
                <a:lnTo>
                  <a:pt x="1244" y="88"/>
                </a:lnTo>
                <a:lnTo>
                  <a:pt x="1153" y="67"/>
                </a:lnTo>
                <a:lnTo>
                  <a:pt x="1060" y="49"/>
                </a:lnTo>
                <a:lnTo>
                  <a:pt x="966" y="27"/>
                </a:lnTo>
                <a:lnTo>
                  <a:pt x="873" y="15"/>
                </a:lnTo>
                <a:lnTo>
                  <a:pt x="779" y="4"/>
                </a:lnTo>
                <a:lnTo>
                  <a:pt x="688" y="0"/>
                </a:lnTo>
                <a:lnTo>
                  <a:pt x="597" y="2"/>
                </a:lnTo>
                <a:lnTo>
                  <a:pt x="506" y="12"/>
                </a:lnTo>
                <a:lnTo>
                  <a:pt x="417" y="27"/>
                </a:lnTo>
                <a:lnTo>
                  <a:pt x="329" y="59"/>
                </a:lnTo>
                <a:lnTo>
                  <a:pt x="242" y="94"/>
                </a:lnTo>
                <a:lnTo>
                  <a:pt x="160" y="142"/>
                </a:lnTo>
                <a:lnTo>
                  <a:pt x="76" y="203"/>
                </a:lnTo>
                <a:lnTo>
                  <a:pt x="0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AutoShape 4"/>
          <p:cNvSpPr/>
          <p:nvPr/>
        </p:nvSpPr>
        <p:spPr>
          <a:xfrm>
            <a:off x="609480" y="838080"/>
            <a:ext cx="4024440" cy="5104080"/>
          </a:xfrm>
          <a:custGeom>
            <a:avLst/>
            <a:gdLst>
              <a:gd name="textAreaLeft" fmla="*/ 0 w 4024440"/>
              <a:gd name="textAreaRight" fmla="*/ 4024800 w 4024440"/>
              <a:gd name="textAreaTop" fmla="*/ 0 h 5104080"/>
              <a:gd name="textAreaBottom" fmla="*/ 5104440 h 5104080"/>
            </a:gdLst>
            <a:ahLst/>
            <a:rect l="textAreaLeft" t="textAreaTop" r="textAreaRight" b="textAreaBottom"/>
            <a:pathLst>
              <a:path w="2535" h="2989">
                <a:moveTo>
                  <a:pt x="2535" y="280"/>
                </a:moveTo>
                <a:lnTo>
                  <a:pt x="2453" y="203"/>
                </a:lnTo>
                <a:lnTo>
                  <a:pt x="2371" y="142"/>
                </a:lnTo>
                <a:lnTo>
                  <a:pt x="2288" y="96"/>
                </a:lnTo>
                <a:lnTo>
                  <a:pt x="2202" y="59"/>
                </a:lnTo>
                <a:lnTo>
                  <a:pt x="2115" y="27"/>
                </a:lnTo>
                <a:lnTo>
                  <a:pt x="2028" y="12"/>
                </a:lnTo>
                <a:lnTo>
                  <a:pt x="1937" y="2"/>
                </a:lnTo>
                <a:lnTo>
                  <a:pt x="1846" y="0"/>
                </a:lnTo>
                <a:lnTo>
                  <a:pt x="1753" y="4"/>
                </a:lnTo>
                <a:lnTo>
                  <a:pt x="1662" y="15"/>
                </a:lnTo>
                <a:lnTo>
                  <a:pt x="1569" y="29"/>
                </a:lnTo>
                <a:lnTo>
                  <a:pt x="1477" y="49"/>
                </a:lnTo>
                <a:lnTo>
                  <a:pt x="1384" y="67"/>
                </a:lnTo>
                <a:lnTo>
                  <a:pt x="1291" y="88"/>
                </a:lnTo>
                <a:lnTo>
                  <a:pt x="1202" y="114"/>
                </a:lnTo>
                <a:lnTo>
                  <a:pt x="1111" y="134"/>
                </a:lnTo>
                <a:lnTo>
                  <a:pt x="0" y="2809"/>
                </a:lnTo>
                <a:lnTo>
                  <a:pt x="131" y="2776"/>
                </a:lnTo>
                <a:lnTo>
                  <a:pt x="280" y="2740"/>
                </a:lnTo>
                <a:lnTo>
                  <a:pt x="443" y="2699"/>
                </a:lnTo>
                <a:lnTo>
                  <a:pt x="620" y="2661"/>
                </a:lnTo>
                <a:lnTo>
                  <a:pt x="802" y="2622"/>
                </a:lnTo>
                <a:lnTo>
                  <a:pt x="995" y="2588"/>
                </a:lnTo>
                <a:lnTo>
                  <a:pt x="1182" y="2563"/>
                </a:lnTo>
                <a:lnTo>
                  <a:pt x="1375" y="2541"/>
                </a:lnTo>
                <a:lnTo>
                  <a:pt x="1562" y="2537"/>
                </a:lnTo>
                <a:lnTo>
                  <a:pt x="1746" y="2541"/>
                </a:lnTo>
                <a:lnTo>
                  <a:pt x="1919" y="2565"/>
                </a:lnTo>
                <a:lnTo>
                  <a:pt x="2079" y="2602"/>
                </a:lnTo>
                <a:lnTo>
                  <a:pt x="2222" y="2661"/>
                </a:lnTo>
                <a:lnTo>
                  <a:pt x="2350" y="2746"/>
                </a:lnTo>
                <a:lnTo>
                  <a:pt x="2457" y="2851"/>
                </a:lnTo>
                <a:lnTo>
                  <a:pt x="2535" y="2989"/>
                </a:lnTo>
                <a:lnTo>
                  <a:pt x="2535" y="280"/>
                </a:lnTo>
              </a:path>
            </a:pathLst>
          </a:custGeom>
          <a:noFill/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AutoShape 5"/>
          <p:cNvSpPr/>
          <p:nvPr/>
        </p:nvSpPr>
        <p:spPr>
          <a:xfrm>
            <a:off x="6872400" y="1039680"/>
            <a:ext cx="2087280" cy="4600800"/>
          </a:xfrm>
          <a:custGeom>
            <a:avLst/>
            <a:gdLst>
              <a:gd name="textAreaLeft" fmla="*/ 0 w 2087280"/>
              <a:gd name="textAreaRight" fmla="*/ 2087280 w 2087280"/>
              <a:gd name="textAreaTop" fmla="*/ 0 h 4600800"/>
              <a:gd name="textAreaBottom" fmla="*/ 4601160 h 4600800"/>
            </a:gdLst>
            <a:ahLst/>
            <a:rect l="textAreaLeft" t="textAreaTop" r="textAreaRight" b="textAreaBottom"/>
            <a:pathLst>
              <a:path w="1315" h="2898">
                <a:moveTo>
                  <a:pt x="0" y="0"/>
                </a:moveTo>
                <a:lnTo>
                  <a:pt x="1108" y="2677"/>
                </a:lnTo>
                <a:lnTo>
                  <a:pt x="1315" y="2898"/>
                </a:lnTo>
                <a:lnTo>
                  <a:pt x="115" y="132"/>
                </a:lnTo>
                <a:lnTo>
                  <a:pt x="85" y="132"/>
                </a:lnTo>
                <a:lnTo>
                  <a:pt x="0" y="0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AutoShape 6"/>
          <p:cNvSpPr/>
          <p:nvPr/>
        </p:nvSpPr>
        <p:spPr>
          <a:xfrm>
            <a:off x="254160" y="1042920"/>
            <a:ext cx="2093760" cy="4597560"/>
          </a:xfrm>
          <a:custGeom>
            <a:avLst/>
            <a:gdLst>
              <a:gd name="textAreaLeft" fmla="*/ 0 w 2093760"/>
              <a:gd name="textAreaRight" fmla="*/ 2094120 w 2093760"/>
              <a:gd name="textAreaTop" fmla="*/ 0 h 4597560"/>
              <a:gd name="textAreaBottom" fmla="*/ 4597920 h 4597560"/>
            </a:gdLst>
            <a:ahLst/>
            <a:rect l="textAreaLeft" t="textAreaTop" r="textAreaRight" b="textAreaBottom"/>
            <a:pathLst>
              <a:path w="1319" h="2896">
                <a:moveTo>
                  <a:pt x="0" y="2896"/>
                </a:moveTo>
                <a:lnTo>
                  <a:pt x="208" y="2675"/>
                </a:lnTo>
                <a:lnTo>
                  <a:pt x="1319" y="0"/>
                </a:lnTo>
                <a:lnTo>
                  <a:pt x="1232" y="130"/>
                </a:lnTo>
                <a:lnTo>
                  <a:pt x="1204" y="130"/>
                </a:lnTo>
                <a:lnTo>
                  <a:pt x="0" y="2896"/>
                </a:lnTo>
                <a:close/>
              </a:path>
            </a:pathLst>
          </a:custGeom>
          <a:solidFill>
            <a:srgbClr val="ffffe1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AutoShape 7"/>
          <p:cNvSpPr/>
          <p:nvPr/>
        </p:nvSpPr>
        <p:spPr>
          <a:xfrm>
            <a:off x="225360" y="795240"/>
            <a:ext cx="8763120" cy="499608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6080"/>
              <a:gd name="textAreaBottom" fmla="*/ 4996440 h 499608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AutoShape 8"/>
          <p:cNvSpPr/>
          <p:nvPr/>
        </p:nvSpPr>
        <p:spPr>
          <a:xfrm>
            <a:off x="228600" y="762120"/>
            <a:ext cx="8763120" cy="4995720"/>
          </a:xfrm>
          <a:custGeom>
            <a:avLst/>
            <a:gdLst>
              <a:gd name="textAreaLeft" fmla="*/ 0 w 8763120"/>
              <a:gd name="textAreaRight" fmla="*/ 8763480 w 8763120"/>
              <a:gd name="textAreaTop" fmla="*/ 0 h 4995720"/>
              <a:gd name="textAreaBottom" fmla="*/ 4996080 h 4995720"/>
            </a:gdLst>
            <a:ahLst/>
            <a:rect l="textAreaLeft" t="textAreaTop" r="textAreaRight" b="textAreaBottom"/>
            <a:pathLst>
              <a:path w="5520" h="3147">
                <a:moveTo>
                  <a:pt x="2761" y="326"/>
                </a:moveTo>
                <a:lnTo>
                  <a:pt x="2770" y="318"/>
                </a:lnTo>
                <a:lnTo>
                  <a:pt x="2848" y="241"/>
                </a:lnTo>
                <a:lnTo>
                  <a:pt x="2932" y="183"/>
                </a:lnTo>
                <a:lnTo>
                  <a:pt x="3010" y="136"/>
                </a:lnTo>
                <a:lnTo>
                  <a:pt x="3098" y="99"/>
                </a:lnTo>
                <a:lnTo>
                  <a:pt x="3179" y="71"/>
                </a:lnTo>
                <a:lnTo>
                  <a:pt x="3267" y="51"/>
                </a:lnTo>
                <a:lnTo>
                  <a:pt x="3358" y="45"/>
                </a:lnTo>
                <a:lnTo>
                  <a:pt x="3449" y="41"/>
                </a:lnTo>
                <a:lnTo>
                  <a:pt x="3540" y="49"/>
                </a:lnTo>
                <a:lnTo>
                  <a:pt x="3632" y="59"/>
                </a:lnTo>
                <a:lnTo>
                  <a:pt x="3725" y="71"/>
                </a:lnTo>
                <a:lnTo>
                  <a:pt x="3818" y="89"/>
                </a:lnTo>
                <a:lnTo>
                  <a:pt x="3909" y="109"/>
                </a:lnTo>
                <a:lnTo>
                  <a:pt x="4001" y="130"/>
                </a:lnTo>
                <a:lnTo>
                  <a:pt x="4094" y="154"/>
                </a:lnTo>
                <a:lnTo>
                  <a:pt x="4180" y="172"/>
                </a:lnTo>
                <a:lnTo>
                  <a:pt x="4256" y="296"/>
                </a:lnTo>
                <a:lnTo>
                  <a:pt x="4272" y="306"/>
                </a:lnTo>
                <a:lnTo>
                  <a:pt x="4293" y="306"/>
                </a:lnTo>
                <a:lnTo>
                  <a:pt x="5473" y="3033"/>
                </a:lnTo>
                <a:lnTo>
                  <a:pt x="5402" y="3031"/>
                </a:lnTo>
                <a:lnTo>
                  <a:pt x="5287" y="3029"/>
                </a:lnTo>
                <a:lnTo>
                  <a:pt x="5138" y="3023"/>
                </a:lnTo>
                <a:lnTo>
                  <a:pt x="4962" y="3019"/>
                </a:lnTo>
                <a:lnTo>
                  <a:pt x="4764" y="3015"/>
                </a:lnTo>
                <a:lnTo>
                  <a:pt x="4551" y="3007"/>
                </a:lnTo>
                <a:lnTo>
                  <a:pt x="4331" y="3001"/>
                </a:lnTo>
                <a:lnTo>
                  <a:pt x="4107" y="2995"/>
                </a:lnTo>
                <a:lnTo>
                  <a:pt x="3896" y="2987"/>
                </a:lnTo>
                <a:lnTo>
                  <a:pt x="3696" y="2981"/>
                </a:lnTo>
                <a:lnTo>
                  <a:pt x="3510" y="2975"/>
                </a:lnTo>
                <a:lnTo>
                  <a:pt x="3354" y="2969"/>
                </a:lnTo>
                <a:lnTo>
                  <a:pt x="3232" y="2964"/>
                </a:lnTo>
                <a:lnTo>
                  <a:pt x="3150" y="2960"/>
                </a:lnTo>
                <a:lnTo>
                  <a:pt x="3116" y="2958"/>
                </a:lnTo>
                <a:lnTo>
                  <a:pt x="3070" y="2960"/>
                </a:lnTo>
                <a:lnTo>
                  <a:pt x="3034" y="2983"/>
                </a:lnTo>
                <a:lnTo>
                  <a:pt x="3025" y="3031"/>
                </a:lnTo>
                <a:lnTo>
                  <a:pt x="3063" y="3048"/>
                </a:lnTo>
                <a:lnTo>
                  <a:pt x="3079" y="3058"/>
                </a:lnTo>
                <a:lnTo>
                  <a:pt x="3085" y="3076"/>
                </a:lnTo>
                <a:lnTo>
                  <a:pt x="3081" y="3098"/>
                </a:lnTo>
                <a:lnTo>
                  <a:pt x="3063" y="3106"/>
                </a:lnTo>
                <a:lnTo>
                  <a:pt x="2761" y="3106"/>
                </a:lnTo>
                <a:lnTo>
                  <a:pt x="2459" y="3106"/>
                </a:lnTo>
                <a:lnTo>
                  <a:pt x="2441" y="3098"/>
                </a:lnTo>
                <a:lnTo>
                  <a:pt x="2441" y="3076"/>
                </a:lnTo>
                <a:lnTo>
                  <a:pt x="2445" y="3058"/>
                </a:lnTo>
                <a:lnTo>
                  <a:pt x="2459" y="3048"/>
                </a:lnTo>
                <a:lnTo>
                  <a:pt x="2499" y="3031"/>
                </a:lnTo>
                <a:lnTo>
                  <a:pt x="2490" y="2983"/>
                </a:lnTo>
                <a:lnTo>
                  <a:pt x="2452" y="2960"/>
                </a:lnTo>
                <a:lnTo>
                  <a:pt x="2405" y="2958"/>
                </a:lnTo>
                <a:lnTo>
                  <a:pt x="2374" y="2960"/>
                </a:lnTo>
                <a:lnTo>
                  <a:pt x="2288" y="2964"/>
                </a:lnTo>
                <a:lnTo>
                  <a:pt x="2165" y="2969"/>
                </a:lnTo>
                <a:lnTo>
                  <a:pt x="2012" y="2975"/>
                </a:lnTo>
                <a:lnTo>
                  <a:pt x="1830" y="2981"/>
                </a:lnTo>
                <a:lnTo>
                  <a:pt x="1626" y="2987"/>
                </a:lnTo>
                <a:lnTo>
                  <a:pt x="1412" y="2995"/>
                </a:lnTo>
                <a:lnTo>
                  <a:pt x="1191" y="3001"/>
                </a:lnTo>
                <a:lnTo>
                  <a:pt x="973" y="3007"/>
                </a:lnTo>
                <a:lnTo>
                  <a:pt x="760" y="3015"/>
                </a:lnTo>
                <a:lnTo>
                  <a:pt x="562" y="3019"/>
                </a:lnTo>
                <a:lnTo>
                  <a:pt x="382" y="3023"/>
                </a:lnTo>
                <a:lnTo>
                  <a:pt x="235" y="3029"/>
                </a:lnTo>
                <a:lnTo>
                  <a:pt x="120" y="3031"/>
                </a:lnTo>
                <a:lnTo>
                  <a:pt x="47" y="3033"/>
                </a:lnTo>
                <a:lnTo>
                  <a:pt x="1231" y="306"/>
                </a:lnTo>
                <a:lnTo>
                  <a:pt x="1250" y="306"/>
                </a:lnTo>
                <a:lnTo>
                  <a:pt x="1268" y="296"/>
                </a:lnTo>
                <a:lnTo>
                  <a:pt x="1348" y="172"/>
                </a:lnTo>
                <a:lnTo>
                  <a:pt x="1432" y="154"/>
                </a:lnTo>
                <a:lnTo>
                  <a:pt x="1521" y="132"/>
                </a:lnTo>
                <a:lnTo>
                  <a:pt x="1615" y="110"/>
                </a:lnTo>
                <a:lnTo>
                  <a:pt x="1706" y="89"/>
                </a:lnTo>
                <a:lnTo>
                  <a:pt x="1797" y="71"/>
                </a:lnTo>
                <a:lnTo>
                  <a:pt x="1892" y="61"/>
                </a:lnTo>
                <a:lnTo>
                  <a:pt x="1979" y="49"/>
                </a:lnTo>
                <a:lnTo>
                  <a:pt x="2072" y="45"/>
                </a:lnTo>
                <a:lnTo>
                  <a:pt x="2163" y="45"/>
                </a:lnTo>
                <a:lnTo>
                  <a:pt x="2252" y="53"/>
                </a:lnTo>
                <a:lnTo>
                  <a:pt x="2339" y="71"/>
                </a:lnTo>
                <a:lnTo>
                  <a:pt x="2423" y="99"/>
                </a:lnTo>
                <a:lnTo>
                  <a:pt x="2508" y="136"/>
                </a:lnTo>
                <a:lnTo>
                  <a:pt x="2590" y="183"/>
                </a:lnTo>
                <a:lnTo>
                  <a:pt x="2667" y="241"/>
                </a:lnTo>
                <a:lnTo>
                  <a:pt x="2748" y="316"/>
                </a:lnTo>
                <a:lnTo>
                  <a:pt x="2761" y="328"/>
                </a:lnTo>
                <a:lnTo>
                  <a:pt x="2759" y="326"/>
                </a:lnTo>
                <a:lnTo>
                  <a:pt x="2759" y="274"/>
                </a:lnTo>
                <a:lnTo>
                  <a:pt x="2692" y="211"/>
                </a:lnTo>
                <a:lnTo>
                  <a:pt x="2612" y="146"/>
                </a:lnTo>
                <a:lnTo>
                  <a:pt x="2525" y="97"/>
                </a:lnTo>
                <a:lnTo>
                  <a:pt x="2437" y="59"/>
                </a:lnTo>
                <a:lnTo>
                  <a:pt x="2346" y="32"/>
                </a:lnTo>
                <a:lnTo>
                  <a:pt x="2255" y="14"/>
                </a:lnTo>
                <a:lnTo>
                  <a:pt x="2163" y="4"/>
                </a:lnTo>
                <a:lnTo>
                  <a:pt x="2072" y="2"/>
                </a:lnTo>
                <a:lnTo>
                  <a:pt x="1979" y="6"/>
                </a:lnTo>
                <a:lnTo>
                  <a:pt x="1886" y="18"/>
                </a:lnTo>
                <a:lnTo>
                  <a:pt x="1793" y="32"/>
                </a:lnTo>
                <a:lnTo>
                  <a:pt x="1699" y="49"/>
                </a:lnTo>
                <a:lnTo>
                  <a:pt x="1606" y="71"/>
                </a:lnTo>
                <a:lnTo>
                  <a:pt x="1515" y="91"/>
                </a:lnTo>
                <a:lnTo>
                  <a:pt x="1424" y="116"/>
                </a:lnTo>
                <a:lnTo>
                  <a:pt x="1333" y="136"/>
                </a:lnTo>
                <a:lnTo>
                  <a:pt x="1321" y="146"/>
                </a:lnTo>
                <a:lnTo>
                  <a:pt x="1242" y="266"/>
                </a:lnTo>
                <a:lnTo>
                  <a:pt x="1222" y="264"/>
                </a:lnTo>
                <a:lnTo>
                  <a:pt x="1206" y="276"/>
                </a:lnTo>
                <a:lnTo>
                  <a:pt x="0" y="3046"/>
                </a:lnTo>
                <a:lnTo>
                  <a:pt x="18" y="3076"/>
                </a:lnTo>
                <a:lnTo>
                  <a:pt x="44" y="3074"/>
                </a:lnTo>
                <a:lnTo>
                  <a:pt x="120" y="3070"/>
                </a:lnTo>
                <a:lnTo>
                  <a:pt x="235" y="3068"/>
                </a:lnTo>
                <a:lnTo>
                  <a:pt x="382" y="3064"/>
                </a:lnTo>
                <a:lnTo>
                  <a:pt x="562" y="3058"/>
                </a:lnTo>
                <a:lnTo>
                  <a:pt x="760" y="3056"/>
                </a:lnTo>
                <a:lnTo>
                  <a:pt x="973" y="3048"/>
                </a:lnTo>
                <a:lnTo>
                  <a:pt x="1191" y="3042"/>
                </a:lnTo>
                <a:lnTo>
                  <a:pt x="1412" y="3037"/>
                </a:lnTo>
                <a:lnTo>
                  <a:pt x="1626" y="3031"/>
                </a:lnTo>
                <a:lnTo>
                  <a:pt x="1830" y="3023"/>
                </a:lnTo>
                <a:lnTo>
                  <a:pt x="2012" y="3019"/>
                </a:lnTo>
                <a:lnTo>
                  <a:pt x="2165" y="3011"/>
                </a:lnTo>
                <a:lnTo>
                  <a:pt x="2288" y="3007"/>
                </a:lnTo>
                <a:lnTo>
                  <a:pt x="2374" y="3003"/>
                </a:lnTo>
                <a:lnTo>
                  <a:pt x="2412" y="2999"/>
                </a:lnTo>
                <a:lnTo>
                  <a:pt x="2445" y="3001"/>
                </a:lnTo>
                <a:lnTo>
                  <a:pt x="2459" y="3007"/>
                </a:lnTo>
                <a:lnTo>
                  <a:pt x="2417" y="3031"/>
                </a:lnTo>
                <a:lnTo>
                  <a:pt x="2399" y="3076"/>
                </a:lnTo>
                <a:lnTo>
                  <a:pt x="2414" y="3127"/>
                </a:lnTo>
                <a:lnTo>
                  <a:pt x="2459" y="3147"/>
                </a:lnTo>
                <a:lnTo>
                  <a:pt x="2761" y="3147"/>
                </a:lnTo>
                <a:lnTo>
                  <a:pt x="3063" y="3147"/>
                </a:lnTo>
                <a:lnTo>
                  <a:pt x="3110" y="3127"/>
                </a:lnTo>
                <a:lnTo>
                  <a:pt x="3125" y="3076"/>
                </a:lnTo>
                <a:lnTo>
                  <a:pt x="3107" y="3031"/>
                </a:lnTo>
                <a:lnTo>
                  <a:pt x="3063" y="3007"/>
                </a:lnTo>
                <a:lnTo>
                  <a:pt x="3076" y="3001"/>
                </a:lnTo>
                <a:lnTo>
                  <a:pt x="3110" y="2999"/>
                </a:lnTo>
                <a:lnTo>
                  <a:pt x="3148" y="3003"/>
                </a:lnTo>
                <a:lnTo>
                  <a:pt x="3232" y="3007"/>
                </a:lnTo>
                <a:lnTo>
                  <a:pt x="3354" y="3011"/>
                </a:lnTo>
                <a:lnTo>
                  <a:pt x="3510" y="3019"/>
                </a:lnTo>
                <a:lnTo>
                  <a:pt x="3696" y="3023"/>
                </a:lnTo>
                <a:lnTo>
                  <a:pt x="3896" y="3031"/>
                </a:lnTo>
                <a:lnTo>
                  <a:pt x="4107" y="3037"/>
                </a:lnTo>
                <a:lnTo>
                  <a:pt x="4331" y="3042"/>
                </a:lnTo>
                <a:lnTo>
                  <a:pt x="4551" y="3048"/>
                </a:lnTo>
                <a:lnTo>
                  <a:pt x="4764" y="3056"/>
                </a:lnTo>
                <a:lnTo>
                  <a:pt x="4962" y="3058"/>
                </a:lnTo>
                <a:lnTo>
                  <a:pt x="5138" y="3064"/>
                </a:lnTo>
                <a:lnTo>
                  <a:pt x="5287" y="3068"/>
                </a:lnTo>
                <a:lnTo>
                  <a:pt x="5402" y="3070"/>
                </a:lnTo>
                <a:lnTo>
                  <a:pt x="5477" y="3074"/>
                </a:lnTo>
                <a:lnTo>
                  <a:pt x="5502" y="3076"/>
                </a:lnTo>
                <a:lnTo>
                  <a:pt x="5520" y="3046"/>
                </a:lnTo>
                <a:lnTo>
                  <a:pt x="4322" y="276"/>
                </a:lnTo>
                <a:lnTo>
                  <a:pt x="4302" y="264"/>
                </a:lnTo>
                <a:lnTo>
                  <a:pt x="4283" y="264"/>
                </a:lnTo>
                <a:lnTo>
                  <a:pt x="4200" y="142"/>
                </a:lnTo>
                <a:lnTo>
                  <a:pt x="4192" y="136"/>
                </a:lnTo>
                <a:lnTo>
                  <a:pt x="4102" y="112"/>
                </a:lnTo>
                <a:lnTo>
                  <a:pt x="4009" y="89"/>
                </a:lnTo>
                <a:lnTo>
                  <a:pt x="3918" y="71"/>
                </a:lnTo>
                <a:lnTo>
                  <a:pt x="3823" y="49"/>
                </a:lnTo>
                <a:lnTo>
                  <a:pt x="3729" y="30"/>
                </a:lnTo>
                <a:lnTo>
                  <a:pt x="3636" y="18"/>
                </a:lnTo>
                <a:lnTo>
                  <a:pt x="3540" y="6"/>
                </a:lnTo>
                <a:lnTo>
                  <a:pt x="3449" y="0"/>
                </a:lnTo>
                <a:lnTo>
                  <a:pt x="3358" y="2"/>
                </a:lnTo>
                <a:lnTo>
                  <a:pt x="3263" y="12"/>
                </a:lnTo>
                <a:lnTo>
                  <a:pt x="3176" y="30"/>
                </a:lnTo>
                <a:lnTo>
                  <a:pt x="3083" y="59"/>
                </a:lnTo>
                <a:lnTo>
                  <a:pt x="2994" y="95"/>
                </a:lnTo>
                <a:lnTo>
                  <a:pt x="2910" y="146"/>
                </a:lnTo>
                <a:lnTo>
                  <a:pt x="2825" y="211"/>
                </a:lnTo>
                <a:lnTo>
                  <a:pt x="2759" y="274"/>
                </a:lnTo>
                <a:lnTo>
                  <a:pt x="2761" y="326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80010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Picture 9" descr=""/>
          <p:cNvPicPr/>
          <p:nvPr/>
        </p:nvPicPr>
        <p:blipFill>
          <a:blip r:embed="rId1"/>
          <a:stretch/>
        </p:blipFill>
        <p:spPr>
          <a:xfrm>
            <a:off x="6659640" y="4365720"/>
            <a:ext cx="1747800" cy="213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0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78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179280" y="333360"/>
            <a:ext cx="3889440" cy="2916360"/>
          </a:xfrm>
          <a:prstGeom prst="rect">
            <a:avLst/>
          </a:prstGeom>
          <a:ln w="0">
            <a:noFill/>
          </a:ln>
        </p:spPr>
      </p:pic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356000" y="333360"/>
            <a:ext cx="4246560" cy="295128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/>
          <p:cNvPicPr/>
          <p:nvPr/>
        </p:nvPicPr>
        <p:blipFill>
          <a:blip r:embed="rId3"/>
          <a:stretch/>
        </p:blipFill>
        <p:spPr>
          <a:xfrm>
            <a:off x="2050920" y="3357720"/>
            <a:ext cx="432144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1"/>
          <p:cNvSpPr/>
          <p:nvPr/>
        </p:nvSpPr>
        <p:spPr>
          <a:xfrm>
            <a:off x="647640" y="1152360"/>
            <a:ext cx="6120000" cy="395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Литерату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DejaVu Sans Condensed"/>
              </a:rPr>
              <a:t>1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imes New Roman"/>
                <a:ea typeface="DejaVu Sans Condensed"/>
                <a:hlinkClick r:id="rId1"/>
              </a:rPr>
              <a:t>http://www.baby.ru/community/view/30500/forum/post/36932489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nattik.ru/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mars36.ru/archives/4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990720"/>
          </a:xfrm>
          <a:prstGeom prst="rect">
            <a:avLst/>
          </a:prstGeom>
          <a:ln w="0">
            <a:noFill/>
          </a:ln>
        </p:spPr>
      </p:pic>
      <p:sp>
        <p:nvSpPr>
          <p:cNvPr id="367" name="Rectangle 3"/>
          <p:cNvSpPr/>
          <p:nvPr/>
        </p:nvSpPr>
        <p:spPr>
          <a:xfrm>
            <a:off x="1374840" y="1143000"/>
            <a:ext cx="515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cc00cc"/>
                </a:solidFill>
                <a:latin typeface="Arial"/>
              </a:rPr>
              <a:t>«Дисциплина на улице – залог безопасности!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8" name="Picture 4" descr=""/>
          <p:cNvPicPr/>
          <p:nvPr/>
        </p:nvPicPr>
        <p:blipFill>
          <a:blip r:embed="rId3"/>
          <a:stretch/>
        </p:blipFill>
        <p:spPr>
          <a:xfrm>
            <a:off x="6357960" y="3857760"/>
            <a:ext cx="1608120" cy="2268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5" descr=""/>
          <p:cNvPicPr/>
          <p:nvPr/>
        </p:nvPicPr>
        <p:blipFill>
          <a:blip r:embed="rId4"/>
          <a:stretch/>
        </p:blipFill>
        <p:spPr>
          <a:xfrm>
            <a:off x="1571760" y="4214880"/>
            <a:ext cx="1152360" cy="187164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6"/>
          <p:cNvSpPr/>
          <p:nvPr/>
        </p:nvSpPr>
        <p:spPr>
          <a:xfrm>
            <a:off x="1357200" y="2000160"/>
            <a:ext cx="6715080" cy="1785960"/>
          </a:xfrm>
          <a:prstGeom prst="rect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entury Schoolbook"/>
              </a:rPr>
              <a:t>ОСТОРОЖНО, УЛИЦА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1" name="Picture 7" descr=""/>
          <p:cNvPicPr/>
          <p:nvPr/>
        </p:nvPicPr>
        <p:blipFill>
          <a:blip r:embed="rId5"/>
          <a:stretch/>
        </p:blipFill>
        <p:spPr>
          <a:xfrm>
            <a:off x="3643200" y="4071960"/>
            <a:ext cx="2000520" cy="2000160"/>
          </a:xfrm>
          <a:prstGeom prst="rect">
            <a:avLst/>
          </a:prstGeom>
          <a:ln w="9360">
            <a:solidFill>
              <a:srgbClr val="fe8637"/>
            </a:solidFill>
            <a:miter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1.0000054168701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71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1"/>
          <p:cNvSpPr/>
          <p:nvPr/>
        </p:nvSpPr>
        <p:spPr>
          <a:xfrm>
            <a:off x="2143080" y="-106200"/>
            <a:ext cx="6172200" cy="1555560"/>
          </a:xfrm>
          <a:prstGeom prst="rect">
            <a:avLst/>
          </a:prstGeom>
          <a:solidFill>
            <a:srgbClr val="e75c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fff39d"/>
                </a:solidFill>
                <a:latin typeface="Century Schoolbook"/>
              </a:rPr>
              <a:t>ДОРОЖНЫЕ ЗНАК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3" name="Picture 2" descr=""/>
          <p:cNvPicPr/>
          <p:nvPr/>
        </p:nvPicPr>
        <p:blipFill>
          <a:blip r:embed="rId1"/>
          <a:stretch/>
        </p:blipFill>
        <p:spPr>
          <a:xfrm>
            <a:off x="3714840" y="192888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3" descr=""/>
          <p:cNvPicPr/>
          <p:nvPr/>
        </p:nvPicPr>
        <p:blipFill>
          <a:blip r:embed="rId2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4" descr=""/>
          <p:cNvPicPr/>
          <p:nvPr/>
        </p:nvPicPr>
        <p:blipFill>
          <a:blip r:embed="rId3"/>
          <a:stretch/>
        </p:blipFill>
        <p:spPr>
          <a:xfrm>
            <a:off x="3786120" y="2000160"/>
            <a:ext cx="2927520" cy="390384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"/>
          <p:cNvPicPr/>
          <p:nvPr/>
        </p:nvPicPr>
        <p:blipFill>
          <a:blip r:embed="rId4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6" descr=""/>
          <p:cNvPicPr/>
          <p:nvPr/>
        </p:nvPicPr>
        <p:blipFill>
          <a:blip r:embed="rId5"/>
          <a:stretch/>
        </p:blipFill>
        <p:spPr>
          <a:xfrm>
            <a:off x="3786120" y="200016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7" descr=""/>
          <p:cNvPicPr/>
          <p:nvPr/>
        </p:nvPicPr>
        <p:blipFill>
          <a:blip r:embed="rId6"/>
          <a:stretch/>
        </p:blipFill>
        <p:spPr>
          <a:xfrm>
            <a:off x="3714840" y="1928880"/>
            <a:ext cx="3000240" cy="400032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8" descr=""/>
          <p:cNvPicPr/>
          <p:nvPr/>
        </p:nvPicPr>
        <p:blipFill>
          <a:blip r:embed="rId7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9" descr=""/>
          <p:cNvPicPr/>
          <p:nvPr/>
        </p:nvPicPr>
        <p:blipFill>
          <a:blip r:embed="rId8"/>
          <a:stretch/>
        </p:blipFill>
        <p:spPr>
          <a:xfrm>
            <a:off x="3714840" y="2000160"/>
            <a:ext cx="3071880" cy="409572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0" descr=""/>
          <p:cNvPicPr/>
          <p:nvPr/>
        </p:nvPicPr>
        <p:blipFill>
          <a:blip r:embed="rId9"/>
          <a:stretch/>
        </p:blipFill>
        <p:spPr>
          <a:xfrm>
            <a:off x="3786120" y="2000160"/>
            <a:ext cx="3000600" cy="40006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11" descr=""/>
          <p:cNvPicPr/>
          <p:nvPr/>
        </p:nvPicPr>
        <p:blipFill>
          <a:blip r:embed="rId10"/>
          <a:stretch/>
        </p:blipFill>
        <p:spPr>
          <a:xfrm>
            <a:off x="3714840" y="20001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2" descr=""/>
          <p:cNvPicPr/>
          <p:nvPr/>
        </p:nvPicPr>
        <p:blipFill>
          <a:blip r:embed="rId11"/>
          <a:stretch/>
        </p:blipFill>
        <p:spPr>
          <a:xfrm>
            <a:off x="3714840" y="2071800"/>
            <a:ext cx="3000240" cy="4000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Text Box 1"/>
          <p:cNvSpPr/>
          <p:nvPr/>
        </p:nvSpPr>
        <p:spPr>
          <a:xfrm>
            <a:off x="2357280" y="500040"/>
            <a:ext cx="6172200" cy="611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упрежд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Запрещ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едписывающ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Информационно-указательны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Приоритет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Сервис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Font typeface="Century Schoolbook"/>
              <a:buAutoNum type="arabicPeriod"/>
              <a:tabLst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b0f0"/>
                </a:solidFill>
                <a:latin typeface="Century Schoolbook"/>
              </a:rPr>
              <a:t>Дополнительной информ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6600" indent="-336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36600"/>
                <a:tab algn="l" pos="784080"/>
                <a:tab algn="l" pos="1233360"/>
                <a:tab algn="l" pos="1682640"/>
                <a:tab algn="l" pos="2131920"/>
                <a:tab algn="l" pos="2581200"/>
                <a:tab algn="l" pos="3030480"/>
                <a:tab algn="l" pos="3479760"/>
                <a:tab algn="l" pos="3929040"/>
                <a:tab algn="l" pos="4378320"/>
                <a:tab algn="l" pos="4827600"/>
                <a:tab algn="l" pos="5276880"/>
                <a:tab algn="l" pos="5726160"/>
                <a:tab algn="l" pos="6175440"/>
                <a:tab algn="l" pos="6624720"/>
                <a:tab algn="l" pos="7074000"/>
                <a:tab algn="l" pos="7523280"/>
                <a:tab algn="l" pos="7972560"/>
                <a:tab algn="l" pos="8421840"/>
                <a:tab algn="l" pos="8871120"/>
                <a:tab algn="l" pos="93200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5" name="Picture 2" descr=""/>
          <p:cNvPicPr/>
          <p:nvPr/>
        </p:nvPicPr>
        <p:blipFill>
          <a:blip r:embed="rId1"/>
          <a:stretch/>
        </p:blipFill>
        <p:spPr>
          <a:xfrm>
            <a:off x="2357280" y="203040"/>
            <a:ext cx="5214960" cy="6654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0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5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" dur="10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4" dur="1000"/>
                                        <p:tgtEl>
                                          <p:spTgt spid="3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1" dur="1000"/>
                                        <p:tgtEl>
                                          <p:spTgt spid="3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8" dur="1000"/>
                                        <p:tgtEl>
                                          <p:spTgt spid="3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5" dur="1000"/>
                                        <p:tgtEl>
                                          <p:spTgt spid="3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Text Box 1"/>
          <p:cNvSpPr/>
          <p:nvPr/>
        </p:nvSpPr>
        <p:spPr>
          <a:xfrm>
            <a:off x="457200" y="301680"/>
            <a:ext cx="8229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entury Schoolbook"/>
              </a:rPr>
              <a:t>ЭТО СВЕТОФОР – ОН РЕГУЛИРУЕТ ДВИЖЕНИЕ ТРАНСПОРТА И ПЕШЕХОДОВ НА ДОРОГ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7" name="Group 2"/>
          <p:cNvGrpSpPr/>
          <p:nvPr/>
        </p:nvGrpSpPr>
        <p:grpSpPr>
          <a:xfrm>
            <a:off x="3962520" y="1371600"/>
            <a:ext cx="1365120" cy="5175360"/>
            <a:chOff x="3962520" y="1371600"/>
            <a:chExt cx="1365120" cy="5175360"/>
          </a:xfrm>
        </p:grpSpPr>
        <p:grpSp>
          <p:nvGrpSpPr>
            <p:cNvPr id="388" name="Group 3"/>
            <p:cNvGrpSpPr/>
            <p:nvPr/>
          </p:nvGrpSpPr>
          <p:grpSpPr>
            <a:xfrm>
              <a:off x="3962520" y="1371600"/>
              <a:ext cx="1365120" cy="3340440"/>
              <a:chOff x="3962520" y="1371600"/>
              <a:chExt cx="1365120" cy="3340440"/>
            </a:xfrm>
          </p:grpSpPr>
          <p:sp>
            <p:nvSpPr>
              <p:cNvPr id="389" name="Rectangle 4"/>
              <p:cNvSpPr/>
              <p:nvPr/>
            </p:nvSpPr>
            <p:spPr>
              <a:xfrm>
                <a:off x="3962520" y="1371600"/>
                <a:ext cx="1365120" cy="33404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Oval 5"/>
              <p:cNvSpPr/>
              <p:nvPr/>
            </p:nvSpPr>
            <p:spPr>
              <a:xfrm>
                <a:off x="4260960" y="1603080"/>
                <a:ext cx="768240" cy="698040"/>
              </a:xfrm>
              <a:prstGeom prst="ellipse">
                <a:avLst/>
              </a:prstGeom>
              <a:solidFill>
                <a:srgbClr val="ff33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Oval 6"/>
              <p:cNvSpPr/>
              <p:nvPr/>
            </p:nvSpPr>
            <p:spPr>
              <a:xfrm>
                <a:off x="4260960" y="2544120"/>
                <a:ext cx="768240" cy="698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2" name="Oval 7"/>
              <p:cNvSpPr/>
              <p:nvPr/>
            </p:nvSpPr>
            <p:spPr>
              <a:xfrm>
                <a:off x="4260960" y="3542760"/>
                <a:ext cx="768240" cy="698040"/>
              </a:xfrm>
              <a:prstGeom prst="ellipse">
                <a:avLst/>
              </a:prstGeom>
              <a:solidFill>
                <a:srgbClr val="33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3" name="Line 8"/>
            <p:cNvSpPr/>
            <p:nvPr/>
          </p:nvSpPr>
          <p:spPr>
            <a:xfrm flipH="1">
              <a:off x="4108320" y="6546960"/>
              <a:ext cx="9972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Rectangle 9"/>
            <p:cNvSpPr/>
            <p:nvPr/>
          </p:nvSpPr>
          <p:spPr>
            <a:xfrm>
              <a:off x="4419720" y="4718520"/>
              <a:ext cx="450720" cy="182016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395" name="Picture 10" descr=""/>
          <p:cNvPicPr/>
          <p:nvPr/>
        </p:nvPicPr>
        <p:blipFill>
          <a:blip r:embed="rId1"/>
          <a:stretch/>
        </p:blipFill>
        <p:spPr>
          <a:xfrm>
            <a:off x="8610480" y="-533520"/>
            <a:ext cx="233640" cy="23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 Box 1"/>
          <p:cNvSpPr/>
          <p:nvPr/>
        </p:nvSpPr>
        <p:spPr>
          <a:xfrm>
            <a:off x="304920" y="152280"/>
            <a:ext cx="8534160" cy="8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КОГДА ГОРИТ КРАСНЫЙ СИГНАЛ СВЕТОФОРА, НАДО ОСТАН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3886200" y="1752480"/>
            <a:ext cx="1066680" cy="28591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Oval 3"/>
          <p:cNvSpPr/>
          <p:nvPr/>
        </p:nvSpPr>
        <p:spPr>
          <a:xfrm>
            <a:off x="4118040" y="1951200"/>
            <a:ext cx="603360" cy="6015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Oval 4"/>
          <p:cNvSpPr/>
          <p:nvPr/>
        </p:nvSpPr>
        <p:spPr>
          <a:xfrm>
            <a:off x="4114800" y="365760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Line 5"/>
          <p:cNvSpPr/>
          <p:nvPr/>
        </p:nvSpPr>
        <p:spPr>
          <a:xfrm flipH="1">
            <a:off x="3998880" y="6172200"/>
            <a:ext cx="78264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Rectangle 6"/>
          <p:cNvSpPr/>
          <p:nvPr/>
        </p:nvSpPr>
        <p:spPr>
          <a:xfrm>
            <a:off x="4241880" y="4611600"/>
            <a:ext cx="355680" cy="15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Oval 7"/>
          <p:cNvSpPr/>
          <p:nvPr/>
        </p:nvSpPr>
        <p:spPr>
          <a:xfrm>
            <a:off x="4114800" y="2819520"/>
            <a:ext cx="603360" cy="60156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03" name="Picture 8" descr=""/>
          <p:cNvPicPr/>
          <p:nvPr/>
        </p:nvPicPr>
        <p:blipFill>
          <a:blip r:embed="rId1"/>
          <a:stretch/>
        </p:blipFill>
        <p:spPr>
          <a:xfrm>
            <a:off x="8910720" y="-7621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1" dur="20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Text Box 1"/>
          <p:cNvSpPr/>
          <p:nvPr/>
        </p:nvSpPr>
        <p:spPr>
          <a:xfrm>
            <a:off x="457200" y="274680"/>
            <a:ext cx="822960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ЖЕЛТЫЙ СИГНАЛ СВЕТОФОРА ГОВОРИТ НАМ О ТОМ, ЧТО НУЖНО ПРИГОТОВИТЬС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Rectangle 2"/>
          <p:cNvSpPr/>
          <p:nvPr/>
        </p:nvSpPr>
        <p:spPr>
          <a:xfrm>
            <a:off x="3733920" y="16765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Oval 3"/>
          <p:cNvSpPr/>
          <p:nvPr/>
        </p:nvSpPr>
        <p:spPr>
          <a:xfrm>
            <a:off x="3983040" y="18781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Oval 4"/>
          <p:cNvSpPr/>
          <p:nvPr/>
        </p:nvSpPr>
        <p:spPr>
          <a:xfrm>
            <a:off x="3983040" y="2693880"/>
            <a:ext cx="644400" cy="612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5"/>
          <p:cNvSpPr/>
          <p:nvPr/>
        </p:nvSpPr>
        <p:spPr>
          <a:xfrm>
            <a:off x="3983040" y="356076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Line 6"/>
          <p:cNvSpPr/>
          <p:nvPr/>
        </p:nvSpPr>
        <p:spPr>
          <a:xfrm flipH="1">
            <a:off x="3854520" y="61722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Rectangle 7"/>
          <p:cNvSpPr/>
          <p:nvPr/>
        </p:nvSpPr>
        <p:spPr>
          <a:xfrm>
            <a:off x="4114800" y="4584600"/>
            <a:ext cx="38088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1"/>
          <a:stretch/>
        </p:blipFill>
        <p:spPr>
          <a:xfrm>
            <a:off x="8910720" y="-533520"/>
            <a:ext cx="233280" cy="23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nodeType="clickEffect" fill="hold">
                      <p:stCondLst>
                        <p:cond delay="0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7" dur="20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1"/>
          <p:cNvSpPr/>
          <p:nvPr/>
        </p:nvSpPr>
        <p:spPr>
          <a:xfrm>
            <a:off x="457200" y="274680"/>
            <a:ext cx="8229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575f6d"/>
                </a:solidFill>
                <a:latin typeface="Century Schoolbook"/>
              </a:rPr>
              <a:t>НА ЗЕЛЕНЫЙ СИГНАЛ СВЕТОФОРА МОЖНО ПЕРЕХОДИТЬ ДОРОГ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2"/>
          <p:cNvSpPr/>
          <p:nvPr/>
        </p:nvSpPr>
        <p:spPr>
          <a:xfrm>
            <a:off x="3657600" y="1447920"/>
            <a:ext cx="1143000" cy="290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Oval 3"/>
          <p:cNvSpPr/>
          <p:nvPr/>
        </p:nvSpPr>
        <p:spPr>
          <a:xfrm>
            <a:off x="3886200" y="1676520"/>
            <a:ext cx="644400" cy="6109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Oval 4"/>
          <p:cNvSpPr/>
          <p:nvPr/>
        </p:nvSpPr>
        <p:spPr>
          <a:xfrm>
            <a:off x="3886200" y="2514600"/>
            <a:ext cx="644400" cy="612720"/>
          </a:xfrm>
          <a:prstGeom prst="ellipse">
            <a:avLst/>
          </a:prstGeom>
          <a:solidFill>
            <a:srgbClr val="fe86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Oval 5"/>
          <p:cNvSpPr/>
          <p:nvPr/>
        </p:nvSpPr>
        <p:spPr>
          <a:xfrm>
            <a:off x="3886200" y="3429000"/>
            <a:ext cx="644400" cy="61272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Line 6"/>
          <p:cNvSpPr/>
          <p:nvPr/>
        </p:nvSpPr>
        <p:spPr>
          <a:xfrm flipH="1">
            <a:off x="3727440" y="5943600"/>
            <a:ext cx="838080" cy="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7"/>
          <p:cNvSpPr/>
          <p:nvPr/>
        </p:nvSpPr>
        <p:spPr>
          <a:xfrm>
            <a:off x="4038480" y="4343400"/>
            <a:ext cx="381240" cy="1587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9" name="Picture 8" descr=""/>
          <p:cNvPicPr/>
          <p:nvPr/>
        </p:nvPicPr>
        <p:blipFill>
          <a:blip r:embed="rId1"/>
          <a:stretch/>
        </p:blipFill>
        <p:spPr>
          <a:xfrm>
            <a:off x="8910720" y="-609480"/>
            <a:ext cx="233280" cy="2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3" dur="2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10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Text Box 1"/>
          <p:cNvSpPr/>
          <p:nvPr/>
        </p:nvSpPr>
        <p:spPr>
          <a:xfrm>
            <a:off x="380880" y="0"/>
            <a:ext cx="8229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entury Schoolbook"/>
              </a:rPr>
              <a:t>ПЕРЕХОДИ ДОРОГУ ТОЛЬКО НА ЗЕЛЕНЫЙ СИГНАЛ СВЕТОФОР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2"/>
          <p:cNvSpPr/>
          <p:nvPr/>
        </p:nvSpPr>
        <p:spPr>
          <a:xfrm>
            <a:off x="609480" y="2895480"/>
            <a:ext cx="8763120" cy="39625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3"/>
          <p:cNvSpPr/>
          <p:nvPr/>
        </p:nvSpPr>
        <p:spPr>
          <a:xfrm>
            <a:off x="126684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4"/>
          <p:cNvSpPr/>
          <p:nvPr/>
        </p:nvSpPr>
        <p:spPr>
          <a:xfrm>
            <a:off x="287352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"/>
          <p:cNvSpPr/>
          <p:nvPr/>
        </p:nvSpPr>
        <p:spPr>
          <a:xfrm>
            <a:off x="455292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6"/>
          <p:cNvSpPr/>
          <p:nvPr/>
        </p:nvSpPr>
        <p:spPr>
          <a:xfrm>
            <a:off x="6232680" y="2895480"/>
            <a:ext cx="7300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7"/>
          <p:cNvSpPr/>
          <p:nvPr/>
        </p:nvSpPr>
        <p:spPr>
          <a:xfrm>
            <a:off x="7912080" y="2895480"/>
            <a:ext cx="73044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Line 8"/>
          <p:cNvSpPr/>
          <p:nvPr/>
        </p:nvSpPr>
        <p:spPr>
          <a:xfrm flipH="1">
            <a:off x="4260600" y="0"/>
            <a:ext cx="88920" cy="6858000"/>
          </a:xfrm>
          <a:prstGeom prst="line">
            <a:avLst/>
          </a:prstGeom>
          <a:ln w="57240">
            <a:solidFill>
              <a:srgbClr val="ffff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9"/>
          <p:cNvSpPr/>
          <p:nvPr/>
        </p:nvSpPr>
        <p:spPr>
          <a:xfrm>
            <a:off x="0" y="0"/>
            <a:ext cx="457200" cy="7010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10"/>
          <p:cNvSpPr/>
          <p:nvPr/>
        </p:nvSpPr>
        <p:spPr>
          <a:xfrm>
            <a:off x="8839080" y="0"/>
            <a:ext cx="533520" cy="68580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0" name="Group 11"/>
          <p:cNvGrpSpPr/>
          <p:nvPr/>
        </p:nvGrpSpPr>
        <p:grpSpPr>
          <a:xfrm>
            <a:off x="7924680" y="152280"/>
            <a:ext cx="679680" cy="2660760"/>
            <a:chOff x="7924680" y="152280"/>
            <a:chExt cx="679680" cy="2660760"/>
          </a:xfrm>
        </p:grpSpPr>
        <p:grpSp>
          <p:nvGrpSpPr>
            <p:cNvPr id="431" name="Group 12"/>
            <p:cNvGrpSpPr/>
            <p:nvPr/>
          </p:nvGrpSpPr>
          <p:grpSpPr>
            <a:xfrm>
              <a:off x="7924680" y="152280"/>
              <a:ext cx="679680" cy="2660760"/>
              <a:chOff x="7924680" y="152280"/>
              <a:chExt cx="679680" cy="2660760"/>
            </a:xfrm>
          </p:grpSpPr>
          <p:grpSp>
            <p:nvGrpSpPr>
              <p:cNvPr id="432" name="Group 13"/>
              <p:cNvGrpSpPr/>
              <p:nvPr/>
            </p:nvGrpSpPr>
            <p:grpSpPr>
              <a:xfrm>
                <a:off x="7924680" y="152280"/>
                <a:ext cx="679680" cy="1713600"/>
                <a:chOff x="7924680" y="152280"/>
                <a:chExt cx="679680" cy="1713600"/>
              </a:xfrm>
            </p:grpSpPr>
            <p:sp>
              <p:nvSpPr>
                <p:cNvPr id="433" name="Rectangle 14"/>
                <p:cNvSpPr/>
                <p:nvPr/>
              </p:nvSpPr>
              <p:spPr>
                <a:xfrm>
                  <a:off x="7924680" y="152280"/>
                  <a:ext cx="679680" cy="17136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4" name="Oval 15"/>
                <p:cNvSpPr/>
                <p:nvPr/>
              </p:nvSpPr>
              <p:spPr>
                <a:xfrm>
                  <a:off x="8074080" y="271080"/>
                  <a:ext cx="380880" cy="356760"/>
                </a:xfrm>
                <a:prstGeom prst="ellipse">
                  <a:avLst/>
                </a:prstGeom>
                <a:solidFill>
                  <a:srgbClr val="ff33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5" name="Oval 16"/>
                <p:cNvSpPr/>
                <p:nvPr/>
              </p:nvSpPr>
              <p:spPr>
                <a:xfrm>
                  <a:off x="8074080" y="754920"/>
                  <a:ext cx="380880" cy="35676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Oval 17"/>
                <p:cNvSpPr/>
                <p:nvPr/>
              </p:nvSpPr>
              <p:spPr>
                <a:xfrm>
                  <a:off x="8074080" y="1267560"/>
                  <a:ext cx="380880" cy="357120"/>
                </a:xfrm>
                <a:prstGeom prst="ellipse">
                  <a:avLst/>
                </a:prstGeom>
                <a:solidFill>
                  <a:srgbClr val="339966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7" name="Line 18"/>
              <p:cNvSpPr/>
              <p:nvPr/>
            </p:nvSpPr>
            <p:spPr>
              <a:xfrm flipH="1">
                <a:off x="7994520" y="2813040"/>
                <a:ext cx="501840" cy="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Rectangle 19"/>
              <p:cNvSpPr/>
              <p:nvPr/>
            </p:nvSpPr>
            <p:spPr>
              <a:xfrm>
                <a:off x="8153280" y="1872000"/>
                <a:ext cx="222480" cy="931320"/>
              </a:xfrm>
              <a:prstGeom prst="rect">
                <a:avLst/>
              </a:prstGeom>
              <a:solidFill>
                <a:srgbClr val="808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39" name="Oval 20"/>
            <p:cNvSpPr/>
            <p:nvPr/>
          </p:nvSpPr>
          <p:spPr>
            <a:xfrm>
              <a:off x="8061480" y="27144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21"/>
            <p:cNvSpPr/>
            <p:nvPr/>
          </p:nvSpPr>
          <p:spPr>
            <a:xfrm>
              <a:off x="8061480" y="744480"/>
              <a:ext cx="404640" cy="349200"/>
            </a:xfrm>
            <a:prstGeom prst="ellipse">
              <a:avLst/>
            </a:prstGeom>
            <a:solidFill>
              <a:srgbClr val="fe863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1" name="Rectangle 22"/>
          <p:cNvSpPr/>
          <p:nvPr/>
        </p:nvSpPr>
        <p:spPr>
          <a:xfrm>
            <a:off x="457200" y="0"/>
            <a:ext cx="15228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23"/>
          <p:cNvSpPr/>
          <p:nvPr/>
        </p:nvSpPr>
        <p:spPr>
          <a:xfrm>
            <a:off x="8839080" y="0"/>
            <a:ext cx="15264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3" name="Picture 24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876600" cy="1790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25" descr=""/>
          <p:cNvPicPr/>
          <p:nvPr/>
        </p:nvPicPr>
        <p:blipFill>
          <a:blip r:embed="rId2"/>
          <a:stretch/>
        </p:blipFill>
        <p:spPr>
          <a:xfrm>
            <a:off x="8686800" y="-233280"/>
            <a:ext cx="233280" cy="233280"/>
          </a:xfrm>
          <a:prstGeom prst="rect">
            <a:avLst/>
          </a:prstGeom>
          <a:ln w="0">
            <a:noFill/>
          </a:ln>
        </p:spPr>
      </p:pic>
      <p:grpSp>
        <p:nvGrpSpPr>
          <p:cNvPr id="445" name="Group 26"/>
          <p:cNvGrpSpPr/>
          <p:nvPr/>
        </p:nvGrpSpPr>
        <p:grpSpPr>
          <a:xfrm>
            <a:off x="7797600" y="2689920"/>
            <a:ext cx="1318320" cy="3170160"/>
            <a:chOff x="7797600" y="2689920"/>
            <a:chExt cx="1318320" cy="3170160"/>
          </a:xfrm>
        </p:grpSpPr>
        <p:sp>
          <p:nvSpPr>
            <p:cNvPr id="446" name="AutoShape 27"/>
            <p:cNvSpPr/>
            <p:nvPr/>
          </p:nvSpPr>
          <p:spPr>
            <a:xfrm rot="480000">
              <a:off x="7860960" y="2768760"/>
              <a:ext cx="1197000" cy="91296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7" name="Group 28"/>
            <p:cNvGrpSpPr/>
            <p:nvPr/>
          </p:nvGrpSpPr>
          <p:grpSpPr>
            <a:xfrm>
              <a:off x="7797600" y="3103560"/>
              <a:ext cx="1152000" cy="2756520"/>
              <a:chOff x="7797600" y="3103560"/>
              <a:chExt cx="1152000" cy="2756520"/>
            </a:xfrm>
          </p:grpSpPr>
          <p:grpSp>
            <p:nvGrpSpPr>
              <p:cNvPr id="448" name="Group 29"/>
              <p:cNvGrpSpPr/>
              <p:nvPr/>
            </p:nvGrpSpPr>
            <p:grpSpPr>
              <a:xfrm>
                <a:off x="7797600" y="3103560"/>
                <a:ext cx="1096200" cy="2756520"/>
                <a:chOff x="7797600" y="3103560"/>
                <a:chExt cx="1096200" cy="2756520"/>
              </a:xfrm>
            </p:grpSpPr>
            <p:sp>
              <p:nvSpPr>
                <p:cNvPr id="449" name="Oval 30"/>
                <p:cNvSpPr/>
                <p:nvPr/>
              </p:nvSpPr>
              <p:spPr>
                <a:xfrm>
                  <a:off x="8115480" y="3103560"/>
                  <a:ext cx="522360" cy="432720"/>
                </a:xfrm>
                <a:prstGeom prst="ellipse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0" name="Rectangle 31"/>
                <p:cNvSpPr/>
                <p:nvPr/>
              </p:nvSpPr>
              <p:spPr>
                <a:xfrm>
                  <a:off x="8247960" y="3604680"/>
                  <a:ext cx="256680" cy="62028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1" name="Rectangle 32"/>
                <p:cNvSpPr/>
                <p:nvPr/>
              </p:nvSpPr>
              <p:spPr>
                <a:xfrm rot="19920000">
                  <a:off x="7791120" y="3749760"/>
                  <a:ext cx="587880" cy="120240"/>
                </a:xfrm>
                <a:prstGeom prst="rect">
                  <a:avLst/>
                </a:pr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2" name="Rectangle 33"/>
                <p:cNvSpPr/>
                <p:nvPr/>
              </p:nvSpPr>
              <p:spPr>
                <a:xfrm rot="2040000">
                  <a:off x="8384040" y="3724920"/>
                  <a:ext cx="520560" cy="120240"/>
                </a:xfrm>
                <a:prstGeom prst="rect">
                  <a:avLst/>
                </a:prstGeom>
                <a:solidFill>
                  <a:srgbClr val="333399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3" name="AutoShape 34"/>
                <p:cNvSpPr/>
                <p:nvPr/>
              </p:nvSpPr>
              <p:spPr>
                <a:xfrm>
                  <a:off x="8051760" y="4170960"/>
                  <a:ext cx="653040" cy="1689120"/>
                </a:xfrm>
                <a:custGeom>
                  <a:avLst/>
                  <a:gdLst>
                    <a:gd name="textAreaLeft" fmla="*/ 0 w 653040"/>
                    <a:gd name="textAreaRight" fmla="*/ 653400 w 653040"/>
                    <a:gd name="textAreaTop" fmla="*/ 0 h 1689120"/>
                    <a:gd name="textAreaBottom" fmla="*/ 605160 h 16891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4365" y="10817"/>
                      </a:moveTo>
                      <a:cubicBezTo>
                        <a:pt x="4365" y="10811"/>
                        <a:pt x="4365" y="10805"/>
                        <a:pt x="4365" y="10800"/>
                      </a:cubicBezTo>
                      <a:cubicBezTo>
                        <a:pt x="4365" y="7246"/>
                        <a:pt x="7246" y="4365"/>
                        <a:pt x="10800" y="4365"/>
                      </a:cubicBezTo>
                      <a:cubicBezTo>
                        <a:pt x="14353" y="4365"/>
                        <a:pt x="17235" y="7246"/>
                        <a:pt x="17235" y="10800"/>
                      </a:cubicBezTo>
                      <a:cubicBezTo>
                        <a:pt x="17235" y="10805"/>
                        <a:pt x="17234" y="10811"/>
                        <a:pt x="17234" y="10817"/>
                      </a:cubicBezTo>
                      <a:lnTo>
                        <a:pt x="21599" y="10828"/>
                      </a:lnTo>
                      <a:cubicBezTo>
                        <a:pt x="21599" y="10819"/>
                        <a:pt x="21600" y="10809"/>
                        <a:pt x="21600" y="10800"/>
                      </a:cubicBezTo>
                      <a:cubicBezTo>
                        <a:pt x="21600" y="4835"/>
                        <a:pt x="16764" y="0"/>
                        <a:pt x="10800" y="0"/>
                      </a:cubicBezTo>
                      <a:cubicBezTo>
                        <a:pt x="4835" y="0"/>
                        <a:pt x="0" y="4835"/>
                        <a:pt x="0" y="10800"/>
                      </a:cubicBezTo>
                      <a:cubicBezTo>
                        <a:pt x="-1" y="10809"/>
                        <a:pt x="0" y="10819"/>
                        <a:pt x="0" y="10828"/>
                      </a:cubicBezTo>
                      <a:lnTo>
                        <a:pt x="4365" y="10817"/>
                      </a:lnTo>
                      <a:close/>
                    </a:path>
                  </a:pathLst>
                </a:custGeom>
                <a:solidFill>
                  <a:srgbClr val="00008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4" name="Oval 35"/>
                <p:cNvSpPr/>
                <p:nvPr/>
              </p:nvSpPr>
              <p:spPr>
                <a:xfrm>
                  <a:off x="8247960" y="3228840"/>
                  <a:ext cx="5904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5" name="Oval 36"/>
                <p:cNvSpPr/>
                <p:nvPr/>
              </p:nvSpPr>
              <p:spPr>
                <a:xfrm>
                  <a:off x="8446320" y="3228840"/>
                  <a:ext cx="58680" cy="55080"/>
                </a:xfrm>
                <a:prstGeom prst="ellipse">
                  <a:avLst/>
                </a:prstGeom>
                <a:solidFill>
                  <a:srgbClr val="fe863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560" bIns="-756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Oval 37"/>
                <p:cNvSpPr/>
                <p:nvPr/>
              </p:nvSpPr>
              <p:spPr>
                <a:xfrm>
                  <a:off x="8247960" y="3417480"/>
                  <a:ext cx="188280" cy="56880"/>
                </a:xfrm>
                <a:prstGeom prst="ellipse">
                  <a:avLst/>
                </a:prstGeom>
                <a:solidFill>
                  <a:srgbClr val="ff00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6480" bIns="-6480" anchor="ctr">
                  <a:noAutofit/>
                </a:bodyPr>
                <a:p>
                  <a:pPr>
                    <a:tabLst>
                      <a:tab algn="l" pos="0"/>
                      <a:tab algn="l" pos="449280"/>
                      <a:tab algn="l" pos="898560"/>
                      <a:tab algn="l" pos="1347840"/>
                      <a:tab algn="l" pos="1797120"/>
                      <a:tab algn="l" pos="2246400"/>
                      <a:tab algn="l" pos="2695680"/>
                      <a:tab algn="l" pos="3144960"/>
                      <a:tab algn="l" pos="3594240"/>
                      <a:tab algn="l" pos="4043520"/>
                      <a:tab algn="l" pos="4492800"/>
                      <a:tab algn="l" pos="4941720"/>
                      <a:tab algn="l" pos="5391000"/>
                      <a:tab algn="l" pos="5840280"/>
                      <a:tab algn="l" pos="6289560"/>
                      <a:tab algn="l" pos="6738840"/>
                      <a:tab algn="l" pos="7188120"/>
                      <a:tab algn="l" pos="7637400"/>
                      <a:tab algn="l" pos="8086680"/>
                      <a:tab algn="l" pos="8535960"/>
                      <a:tab algn="l" pos="898524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7" name="AutoShape 38"/>
              <p:cNvSpPr/>
              <p:nvPr/>
            </p:nvSpPr>
            <p:spPr>
              <a:xfrm>
                <a:off x="7860960" y="4887360"/>
                <a:ext cx="35892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8" name="AutoShape 39"/>
              <p:cNvSpPr/>
              <p:nvPr/>
            </p:nvSpPr>
            <p:spPr>
              <a:xfrm>
                <a:off x="8591040" y="4887360"/>
                <a:ext cx="358560" cy="169200"/>
              </a:xfrm>
              <a:prstGeom prst="roundRect">
                <a:avLst>
                  <a:gd name="adj" fmla="val 50000"/>
                </a:avLst>
              </a:prstGeom>
              <a:solidFill>
                <a:srgbClr val="0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0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9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4T13:04:26Z</dcterms:created>
  <dc:creator>Учитель</dc:creator>
  <dc:description/>
  <dc:language>en-US</dc:language>
  <cp:lastModifiedBy>Ucer</cp:lastModifiedBy>
  <dcterms:modified xsi:type="dcterms:W3CDTF">2019-03-24T05:42:41Z</dcterms:modified>
  <cp:revision>28</cp:revision>
  <dc:subject/>
  <dc:title>Слайд 1</dc:title>
</cp:coreProperties>
</file>