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2174-DC16-4A71-9A87-F058A7C33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01C3-8690-401C-B050-ADE73772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C268-A9D3-4878-AAF3-1C502146C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F24C-1AB0-4E6C-B803-1AA9B91B7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63A53-CB73-4101-850F-5A6D6ECFD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23EB4-9DE6-4424-8033-CA9BE222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EE6D8-6393-4908-A1EB-54EDDC59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24E05-B52F-47E8-BF81-BAE62D76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27BF9-D380-45B2-ACE9-728ACB30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453AF-18F2-474C-8144-D0D7B559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873FD-FF52-4220-8A04-ACD10728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9461-D4BA-4556-B00C-D0D101C7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AAFD3-9407-4A3B-9FF4-590954FB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6AFF1-344F-4DD2-97E0-3CC1EDF8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9E7F3-89B1-424B-AA3C-9FB36C29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BEF99-1450-42D7-8BE2-EF520838E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BEACB-C18C-4E35-8C95-BB99AF6A3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671A-C6FC-406D-ACAD-7984E638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555C-839C-4822-AE54-0E3B839F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2F86-A9E3-4C46-BD01-FAD81405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805A-6720-411F-9DF9-2A57AF0F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9DCB-F2E3-4397-90D0-94433FF1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1140-CF6F-4720-BF30-6AFA065F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3495-79F8-4E2E-950E-A7A3EE55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168C-23AA-46E4-8D0E-19D9E81BC3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BE15-EE17-48DD-95AE-D6E74493FF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3e3ff"/>
                </a:solidFill>
                <a:latin typeface="Arial"/>
              </a:rPr>
              <a:t>Мастер – класс по рисованию с помощью губки и малярного скотча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4800"/>
            </a:br>
            <a:r>
              <a:rPr b="1" lang="en-US" sz="4800" spc="-1" strike="noStrike">
                <a:solidFill>
                  <a:srgbClr val="e3e3ff"/>
                </a:solidFill>
                <a:latin typeface="Arial"/>
              </a:rPr>
              <a:t>"Мы учимся рисовать"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спитатель Дерендеева И.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/с «Ручеёк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85800" y="6019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етям постарше ( 4 -5 лет) можно предложить раскрасить черепашку с помощью губки и малярного скотч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2209320"/>
            <a:ext cx="8153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Описание рабо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Рисование губкой очень увлекательное занятие, особенно для маленьких детей . Держать карандаш или кисточку для них еще трудновато, так как рисование карандашом требует от детей определённого нажима для того, чтобы он начал оставлять на бумаге яркие черточки, кружочки. Деткам до 2-3 лет сложно рисовать с помощью кисточки, поэтому используем всевозможные заменители кистей.</a:t>
            </a:r>
            <a:br>
              <a:rPr sz="7200"/>
            </a:b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Рисование губкой с одной стороны хороший способ развития фантазии, с другой — развитие умения рисовать. Простота создания рисунка с помощью губки придает ребенку уверенность в своих силах и не требует от него определенных умений рисовать.</a:t>
            </a:r>
            <a:br>
              <a:rPr sz="7200"/>
            </a:b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Мастер – класс будет полезен в работе воспитателей детских садов и родителей с детьми от 2 лет , а также всем творческим людям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3520" y="3808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Цель: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здание яркого рисунка в стиле абстрак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дачи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увлечь детей интересным способом рисования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формировать интерес и положительного отношения к рисованию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развивать мелкую моторику, глазомер, пространственное воображение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развивать творческие способности, воображение, фантазию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развивать эстетический и художественный вкус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воспитывать самостоятельность, аккуратность, любознательно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ля создания такого рисунка нам потребуется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белый картон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гуашь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губка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малярный скотч( узкий)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ожницы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04920" y="60199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начала нарезаем губку на маленькие кусочки, для того чтобы маленькой детской руке было удобнее держа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60199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алее в одноразовых тарелочках разводим гуашь. В данном случае мы взяли 4 цве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3520" y="62485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артон необходимо заклеить хаотично полосками малярного скотча.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04920" y="56674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начала предлагаем ребенку потрогать, почувствовать губку, какая она мягкая, сухая, мокрая. Показываем, как можно наносить мазки поверх малярного скотча. Потом ребенок сам берет губку, обмакивает ее в краску одного цвета и закрашивает лист бумаги.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4920" y="594216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гда краска высохнет, можно аккуратно оторвать полоски малярного скотча. Такой рисунок в стиле абстракции, можно вставить в рамку и повесить на стену такую необычную картину ребенка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09T14:07:41Z</dcterms:created>
  <dc:creator>Ucer</dc:creator>
  <dc:description/>
  <dc:language>en-US</dc:language>
  <cp:lastModifiedBy>Ucer</cp:lastModifiedBy>
  <dcterms:modified xsi:type="dcterms:W3CDTF">2019-03-09T14:37:4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