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3F1B-D443-4CC1-9900-98AF87A67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AD60-8532-4B30-8738-F52062794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B546-E9F3-4E82-A093-3B8E3A54D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6142-0F05-43A7-96B0-1BEE2C0C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3EFC32-9499-49BF-802F-F546E1694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B0FFBED-AE10-43EC-95FF-6CBB6F470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FAD4B0-5D6B-4C53-BC54-47B88F101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459B2E-044F-41EB-8EF2-F2BB6EAB1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F31519-5496-48F8-82B2-D119738BA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6E68B-0052-46A3-A8A8-0584F3A00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DB261A-3923-4A80-929E-48478EC3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594-E3BC-497E-A785-0A152F572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ABAE1B-DA76-4B4B-8F3E-DCB15D6D2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F45B78F-6829-43D3-8D0D-692733CA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41B2AE-4666-41B7-BB40-9A87E554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3EC823-336A-4B6D-A565-B2C7EA817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46C94-D130-4481-98BD-14B5015A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64C8-89FE-4499-A9A3-0E424AD7D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A689-04FA-4317-9E24-2F092DD93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58A90-520F-4D76-898B-0CE90BE1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36B9-1D77-442F-B3C8-BB4A35179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336AC-01EA-45D0-BC48-4D061B2FA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A85CD-B25C-47FE-B4EA-23460C16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C25C-709B-4764-B00A-D56EFC89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6D055-E9B5-4DA1-8C5C-B43A27C2326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7E3E8-3CFC-4B6D-826B-61E6903F0FE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Мастер – класс по рисованию с помощью губки и малярного скотча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"Мы учимся рисовать"</a:t>
            </a:r>
            <a:r>
              <a:rPr b="0" lang="en-US" sz="48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27432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оспитатель Дерендеева И.М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/с «Ручеёк»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85800" y="60199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ям постарше ( 4 -5 лет) можно предложить раскрасить черепашку с помощью губки и малярного скотч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2209320"/>
            <a:ext cx="815328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ffff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Arial"/>
              </a:rPr>
              <a:t>Описание рабо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elvetica Neue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Рисование губкой очень увлекательное занятие, особенно для маленьких детей . Держать карандаш или кисточку для них еще трудновато, так как рисование карандашом требует от детей определённого нажима для того, чтобы он начал оставлять на бумаге яркие черточки, кружочки. Деткам до 2-3 лет сложно рисовать с помощью кисточки, поэтому используем всевозможные заменители кистей.</a:t>
            </a:r>
            <a:br>
              <a:rPr sz="7200"/>
            </a:b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Рисование губкой с одной стороны хороший способ развития фантазии, с другой — развитие умения рисовать. Простота создания рисунка с помощью губки придает ребенку уверенность в своих силах и не требует от него определенных умений рисовать.</a:t>
            </a:r>
            <a:br>
              <a:rPr sz="7200"/>
            </a:br>
            <a:r>
              <a:rPr b="0" lang="en-US" sz="2400" spc="-1" strike="noStrike">
                <a:solidFill>
                  <a:srgbClr val="ffffff"/>
                </a:solidFill>
                <a:latin typeface="Helvetica Neue"/>
              </a:rPr>
              <a:t>Мастер – класс будет полезен в работе воспитателей детских садов и родителей с детьми от 2 лет , а также всем творческим людям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33520" y="380880"/>
            <a:ext cx="815328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ель: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здание яркого рисунка в стиле абстрак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Задачи: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увлечь детей интересным способом рисования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формировать интерес и положительного отношения к рисованию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азвивать мелкую моторику, глазомер, пространственное воображение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развивать творческие способности, воображение, фантазию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развивать эстетический и художественный вкус;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воспитывать самостоятельность, аккуратность, любознательность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53352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Для создания такого рисунка нам потребуется: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белый картон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гуашь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губка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малярный скотч( узкий);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ожницы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920" y="60199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начала нарезаем губку на маленькие кусочки, для того чтобы маленькой детской руке было удобнее держать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6019920"/>
            <a:ext cx="83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алее в одноразовых тарелочках разводим гуашь. В данном случае мы взяли 4 цвет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533520" y="6248520"/>
            <a:ext cx="82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артон необходимо заклеить хаотично полосками малярного скотча.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04920" y="5667480"/>
            <a:ext cx="883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Сначала предлагаем ребенку потрогать, почувствовать губку, какая она мягкая, сухая, мокрая. Показываем, как можно наносить мазки поверх малярного скотча. Потом ребенок сам берет губку, обмакивает ее в краску одного цвета и закрашивает лист бумаги.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920" y="5942160"/>
            <a:ext cx="861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гда краска высохнет, можно аккуратно оторвать полоски малярного скотча. Такой рисунок в стиле абстракции, можно вставить в рамку и повесить на стену такую необычную картину ребенка!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09T14:07:41Z</dcterms:created>
  <dc:creator>Ucer</dc:creator>
  <dc:description/>
  <dc:language>en-US</dc:language>
  <cp:lastModifiedBy>Ucer</cp:lastModifiedBy>
  <dcterms:modified xsi:type="dcterms:W3CDTF">2019-03-09T14:37:46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