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465ED-1AB6-4E93-B36C-71D849EE53B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4F510-19CD-453F-AA10-F5549C57F7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1FF83-A307-4D22-9ABE-CBF66EBEEE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9DBD6-7BEC-4DF5-B9CD-926B3BC958A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CB82B-7736-4A97-9ECF-852CBF108D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F2E39-86A2-47AC-93D6-DFFE56F36A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E8BAF-1820-4D56-B197-4D1EB3ACA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EFF64-37A9-48BA-A83F-D8CA3D0D39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C91F5-23FC-43E3-823B-61CC582EA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C936E-3703-4492-AC7D-EB744F720DB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A7319-10E6-4908-A650-F28C639868B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4E665-2E88-4832-91E5-A91DABADBA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44B54-6548-432A-9206-B866D6C988A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8B556-2386-4C7D-92AB-DE2C1D798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71DAA-1064-4B81-95FA-19BB260515F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5FE76-1ADC-4884-99AA-F864336688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AD518-EE02-43CC-9857-41ADBED1819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DFBEF-B940-4D49-AFC3-EC24AB68F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F83C4-508E-4D45-B2B9-8FDEA843B3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A95BA-CDD7-4495-972D-A78D986825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4C49B-7208-49D7-A4B1-A4A0242EE6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5E10D-BAD1-4077-9248-2F9A1270D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9AAED-B357-43D3-A3CA-B19E3926A52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66ADD-F871-49DC-B0BA-4F05246A8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75FBB-A167-4AEC-BE47-BB073EB917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901BA-C935-4D3D-AA43-93ED6BFC6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83B0-71B9-4558-956B-B3827036A1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37FB-7A82-4EDC-AC09-E4712E0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465F-10B4-4C10-A76F-ED78A3DF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1932-7689-441C-A4E6-F2AB78DB8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BEFF2-FA86-4952-812E-0349F4A20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B5A95-8E76-4442-B2C0-F1C0E45B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139E3-9E43-418E-9681-7981B160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6A208-90CC-47C4-AB99-56BCC60E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D1423-11BA-4B26-B135-093B067F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524B0-89FC-4395-BD70-33A6D18D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539F6-D296-4959-9866-FA4B1DB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7959-E27F-410A-B9C0-AD17EAAA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308BA-B3C9-4F43-8D01-515D9452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0619E-3E8E-4F31-8DB3-D25735C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705CB-1444-41C0-9A69-89650031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E3381-151B-4556-89C7-963DAF2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E67A6-CE91-4A68-BB47-74CDEFCCF1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2699-37BF-4619-B949-A4D58C947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A00F-E073-44DC-A266-9BC3211D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7151-B9C6-4D89-ABF6-FFBD15A0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2B43-621A-4B01-A5CC-395BCF7A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ACA6-D400-4C8A-AE48-F6DE78BC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4F9F-6DAC-4DFA-AA1C-9333211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795D-A6D0-4710-B891-82AEC725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7A57-D091-421E-9D0E-31C5E813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CDB6-5349-4E65-A1DF-C96C462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595-33B1-4458-AD89-C51DDCDC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0F17-154D-4C81-9C74-5BB77703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6515-2A99-494D-9442-7E2EF1E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EF05-0957-4AE0-9B6C-A5ED3A712F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C0383-98B4-4990-9F53-9447FE898B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F230A-D96C-4C61-BFE1-8A27DE46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ECA4A-F685-420F-8B7C-A77B69BE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A659-1524-425C-B8C8-15041323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C296E-F327-4216-9E67-4C52EA35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9D7D0-EAAB-40E3-8C91-C213AA63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1C6B8-7529-47AE-A016-ABD921FA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10724-A592-4F3F-890E-5F1CD517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20F41-2BA6-4187-AD1C-A9720AF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5FAD1-6AA9-4D59-9D13-17FD9476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E6F0C-E9AB-4BD5-B878-AA1A2715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669B6-4D50-40E6-B9D5-60397960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104E5-5E5C-440C-B127-8C3028040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FFF46-9E4A-460B-8464-22EB8F4A59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3CE0-CA33-4DDE-BA6E-58B2E44E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A73784-67A1-49C0-A0B1-453EA5FC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E4EDD6-EE40-48E3-B067-1C0F30CC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55CB7-BC45-483F-B404-A44A03AC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415B4D-8BF8-4FF1-AD66-9560CF28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61076-752D-4490-A34A-2251C717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9B51D-D115-4B8A-A1E7-B6C104FE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EE89E-78F1-4875-80D7-BA866B48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B47AF-9835-4692-A1E7-2A740C61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A4992-CAFC-4ED2-93C4-23640A1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2B9A6-F1F1-4DAE-81D4-BD930097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F847-C9F0-41BE-AE52-60E0CDF8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F85B08-29A6-4063-96F1-897F79A773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BD48-7E30-41BD-AF07-6DF907ED08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33AB-008C-4B5F-8E03-F426234D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A637-C6D9-4F80-9771-C56B065F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36F71-559E-472D-9ECC-2868C668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4F56-F120-42DB-A541-1376D64F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C8FC-D070-473E-9D15-173BFE23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EE94A-4955-44B8-8E9A-D23E8D69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F575-90A1-4C75-AB3B-B714614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03128-287B-4761-BC66-EAFE04C8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57EC-CBBC-4A54-A215-3CE0F8EF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B773B-B752-4FF9-88A8-D31B2C39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33C1C-794C-47E7-8D38-C12829EA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43B37-DBF4-4C69-B887-B5888A25F4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DEB651-BCB8-47C8-BDFA-D334B1369B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08A8B-6666-49AB-A6C4-BFBE6DDB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AE5A1-317F-4FF9-8B7A-21905BA2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DBC87-773F-4705-9EBF-E69D01F0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74F78-EF03-472F-BD14-5861671F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CA582-95E5-40C1-B2CF-5D497FA0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A2109-3701-4A3A-8BA2-10708B10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2794-CDB3-45B4-87BB-6716A2F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42B296-FD41-4405-ACCD-8440F781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A6B15-DD79-4ABB-A277-A292E7EF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7C96C-61A4-445F-8CCE-750CB06D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7D60C-8277-40BA-A463-050B8E3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2898B-A366-4594-9227-DCFE7B1183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FA29F-D9DE-4F1D-B92F-7E7789CB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E5B8-5501-462B-A308-824C335465F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862627-7FED-4370-AE4F-4A1A3506D310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82B0D6-E78F-4960-B382-4373733521E1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143A5F-8EF7-4ABA-A855-D9ED47F35F3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E44CA3-1E9E-4256-B62A-3F9366A298DF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D0BF38-F90C-4617-9024-003D720A175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50BA46-9297-4E71-897D-9124D867B719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ерендеева Ирина Михайловна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\сад «Ручеек»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246560" cy="2951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Ucer</cp:lastModifiedBy>
  <dcterms:modified xsi:type="dcterms:W3CDTF">2019-03-24T05:42:41Z</dcterms:modified>
  <cp:revision>28</cp:revision>
  <dc:subject/>
  <dc:title>Слайд 1</dc:title>
</cp:coreProperties>
</file>